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unmul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31_novo.mp3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pileup15_novo.mp3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609840" y="2590920"/>
            <a:ext cx="77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ÇÃO EM CONTESTES E D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1941480" y="327348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CAS PRÁTICAS OPER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66480" y="6411960"/>
            <a:ext cx="49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Y5EG – VII ENCONTRO GADX / FENARCOM  JULHO/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80640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gora vamos a algumas dicas mais específ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240" y="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80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Dicas de como trabalhar o DX - Sp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1143000"/>
            <a:ext cx="8686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Alguns operadores mantém uma mesma prática de recepção no espectro de freqüência split nas várias expedições em que participa, e “escutando com atenção” você poderá “adivinhar” qual a melhor freqüência para chama-lo. Por ex. G3SXW quando pede split de 5 a 15Khz acima ele começará escutando em 5 Khz acima e vai trabalhando em seqüência subindo de freqüência e depois ao chegar nos 15 Khz acima, faz o caminho de volta descendo de freqüência. Recomenda-se escutar a estação que ele esta atendendo e chama-lo naquela freqüência  no “espaço morto”. Caso não tenha sucesso, pelo fato do DX estar trabalhando uma outra área, chama-lo +-      1 Khz acima. Uma grande parte dos operadores tradicionais de expedições seguem a mesma prá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380988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Outros operadores fazem o mesmo trajeto, porem em espaços maiores, por ex de 3Khz. Neste caso no termino do QSO, você chama aproximadamente os 3 Khz acima ou abaixo, dependendo da trajetória do procedim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464832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Outros preferem as freqüências aleatórias e nesse caso, você tem que achar a estação correspondente e chamar imediatamente após o QSO terminado no espaço mor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5486400"/>
            <a:ext cx="8686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Em Curitiba nos fazíamos internamente um treinamento interessante organizando uma competição entre +- 5 operadores para trabalhar na mesma estação uma determinada figurinha . O ganhador seria aquele que tivesse o maior número de pontos calculados por uma fórmula de eficiência com base no número de chamadas e tempo para o trabalho da figurinh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762120"/>
            <a:ext cx="868680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Alguns exemplos gravados de DX trabalhad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Pile up lento 15 met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Pile up lento 20 met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Pile up 40 met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240" y="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80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Dicas de como trabalhar o 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alante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838080"/>
            <a:ext cx="782640" cy="982800"/>
          </a:xfrm>
          <a:prstGeom prst="rect">
            <a:avLst/>
          </a:prstGeom>
          <a:ln w="0">
            <a:noFill/>
          </a:ln>
        </p:spPr>
      </p:pic>
      <p:pic>
        <p:nvPicPr>
          <p:cNvPr id="86" name="falante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133720"/>
            <a:ext cx="782640" cy="982440"/>
          </a:xfrm>
          <a:prstGeom prst="rect">
            <a:avLst/>
          </a:prstGeom>
          <a:ln w="0">
            <a:noFill/>
          </a:ln>
        </p:spPr>
      </p:pic>
      <p:pic>
        <p:nvPicPr>
          <p:cNvPr id="87" name="falante" descr=""/>
          <p:cNvPicPr/>
          <p:nvPr/>
        </p:nvPicPr>
        <p:blipFill>
          <a:blip r:embed="rId5"/>
          <a:stretch/>
        </p:blipFill>
        <p:spPr>
          <a:xfrm>
            <a:off x="2971800" y="3429000"/>
            <a:ext cx="782640" cy="982800"/>
          </a:xfrm>
          <a:prstGeom prst="rect">
            <a:avLst/>
          </a:prstGeom>
          <a:ln w="0">
            <a:noFill/>
          </a:ln>
        </p:spPr>
      </p:pic>
      <p:pic>
        <p:nvPicPr>
          <p:cNvPr id="88" name="falante" descr=""/>
          <p:cNvPicPr/>
          <p:nvPr/>
        </p:nvPicPr>
        <p:blipFill>
          <a:blip r:embed="rId6"/>
          <a:stretch/>
        </p:blipFill>
        <p:spPr>
          <a:xfrm>
            <a:off x="2590920" y="4724280"/>
            <a:ext cx="83808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762120"/>
            <a:ext cx="868680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As técnicas de operação em contestes variam em alguns aspectos, em relação ao tipo de operação e categoria escolhida em determinada competição. A vasta maioria dos contestes internacionais mais importantes permitem e incentivam as seguintes principais categorias: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SOB – Single op single band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LP, QRP, 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SOAB – Single op all band       LP, QRP, HP , assisted or non assi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M/2    - Multi Two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M/S   - Multi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MM  - Multi Mul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SO2R ?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Há que se considerar que alguns contestes, incluem categorias especiais , com Rookie, TB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Estes contestes principais normalmente usam um determinado final de semana para cada uma das diferentes modalidades, SSB, CW, RTTY , e alguns poucos incluem em um mesmo final de semana a modalidade de CW e SSB, e MIX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9960" y="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EM CON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8088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4290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048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3794"/>
                </a:moveTo>
                <a:lnTo>
                  <a:pt x="23213" y="10800"/>
                </a:lnTo>
                <a:lnTo>
                  <a:pt x="920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838080"/>
            <a:ext cx="868680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Conhecimento  mais profundo possível, das regras da competiç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Informação qualificada dos anteced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Resultados anteriores glob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Resultados mais detalhados das modalidades e competidores das alternativas em que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você poderia ter interesse em competi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Seus resultados próprios anteriores, pois a melhor competição é consigo me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Previsão da propag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Verificar nos sites especializados quem serão os principais competidores nas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alternativas de categoria que eventualmente você tenha interesse em competi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Ter um bom e racional juízo da competitividade (qualidade) de sua estação para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poder definir a categoria, modo e estratégia mais adequada de operaç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Seleção da modalidade e categoria a ser oper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Preparação da estação, antenas, computadores e periféricos com a máxima antecedência em relação ao contes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Preparação do melhor posicionamento lógico e confortável operacional da estação da para a categoria escolhida.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Um bom programa de alimentação e repouso nos dois dias antecedentes ao conteste é altamente recomendá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9960" y="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EM CON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8088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480" y="366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00" y="442800"/>
            <a:ext cx="26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Pré-requisitos e pressup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876920" y="2209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213372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6400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895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838080"/>
            <a:ext cx="868680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Nestas definições, certos detalhes não importantes para uma operação esporádica, passam a ser extremamente importantes para uma operação de 24, 36 ou 48 ho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acesso mais fácil possível a todos os equipamentos e acessórios, tais como, rotores,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aixas de comutação de antenas, lineares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Cadeira mais confortável possível – Lembre-se que você vai passar mais de 30 horas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naquela posi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Normalmente a temperatura do shack é consideravelmente elevada, por força d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issipação de calor dos equipamentos, e na ausência de ar condicionado, um ventilador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 boa ventilação natural é extremamente importa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A iluminação, quando não natural, é importante que não seja prejudicial a visão,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ncipalmente para aqueles operadores de mais idade, usuários de ócul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Um bom planejamento da operação, principalmente se o objetivo é de disputa dos primeiros lugares, é altamente recomendável, com ênfase aos seguintes pontos: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Com base nas informações qualificadas estabelecer as horas de oper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O mesmo com relação as prioridades de direcionamento de ante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Em operações Multi-operadores programa de operações por operador com indicação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bandas e cronograma de oper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Targets de número de QSOs e multiplicadores por hora do conte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9960" y="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EM CON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480" y="366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600" y="442800"/>
            <a:ext cx="26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Pré-requisitos e pressup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81880" y="17524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724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362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609480"/>
            <a:ext cx="89154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As estratégias operacionais são muito dependentes das suas condições em que você esta peran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Loca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 Qualidade de op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 Modo de op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 Ban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 Single ou Multi oper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Uso do cluster ou n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Condução do seu pile up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 Variação da velocidade de acordo com a quantidade de tráfe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 Evitar QRZ, ou What is your ca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 Mesmo pegando parte do indicativo, voltar  para a estação dando a reportagem e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número e solicitando a confirmação do indic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Não logar nenhum QSO com dúvi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Manutenção da freqüência – técn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Retorno final sem utilização de código fonét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 Operação spl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Sempre dar oportunidade a áreas e multiplicadores  mais difíceis.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9960" y="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EM CON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8088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480" y="366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80" y="304920"/>
            <a:ext cx="26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Pré-requisitos e pressup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838080"/>
            <a:ext cx="86868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aça a multiplic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Convite para mudança de banda ou mo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 Sche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 Controle de multiplicad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 SO2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9960" y="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EM CON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480" y="366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00" y="442800"/>
            <a:ext cx="26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Pré-requisitos e pressup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05120" y="20574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Times New Roman"/>
              </a:rPr>
              <a:t>FI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8991720" cy="6629400"/>
          </a:xfrm>
          <a:custGeom>
            <a:avLst/>
            <a:gdLst>
              <a:gd name="textAreaLeft" fmla="*/ 429480 w 8991720"/>
              <a:gd name="textAreaRight" fmla="*/ 8562240 w 8991720"/>
              <a:gd name="textAreaTop" fmla="*/ 429480 h 6629400"/>
              <a:gd name="textAreaBottom" fmla="*/ 6199920 h 6629400"/>
            </a:gdLst>
            <a:ahLst/>
            <a:rect l="textAreaLeft" t="textAreaTop" r="textAreaRight" b="textAreaBottom"/>
            <a:pathLst>
              <a:path w="29297" h="21600">
                <a:moveTo>
                  <a:pt x="0" y="0"/>
                </a:moveTo>
                <a:lnTo>
                  <a:pt x="29297" y="0"/>
                </a:lnTo>
                <a:lnTo>
                  <a:pt x="29297" y="21600"/>
                </a:lnTo>
                <a:lnTo>
                  <a:pt x="0" y="21600"/>
                </a:lnTo>
                <a:close/>
              </a:path>
              <a:path fill="lightenLess" w="29297" h="21600">
                <a:moveTo>
                  <a:pt x="0" y="0"/>
                </a:moveTo>
                <a:lnTo>
                  <a:pt x="29297" y="0"/>
                </a:lnTo>
                <a:lnTo>
                  <a:pt x="27897" y="1400"/>
                </a:lnTo>
                <a:lnTo>
                  <a:pt x="1400" y="1400"/>
                </a:lnTo>
                <a:close/>
              </a:path>
              <a:path fill="darken" w="29297" h="21600">
                <a:moveTo>
                  <a:pt x="29297" y="0"/>
                </a:moveTo>
                <a:lnTo>
                  <a:pt x="29297" y="21600"/>
                </a:lnTo>
                <a:lnTo>
                  <a:pt x="27897" y="20200"/>
                </a:lnTo>
                <a:lnTo>
                  <a:pt x="27897" y="1400"/>
                </a:lnTo>
                <a:close/>
              </a:path>
              <a:path fill="darkenLess" w="29297" h="21600">
                <a:moveTo>
                  <a:pt x="29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7" y="20200"/>
                </a:lnTo>
                <a:close/>
              </a:path>
              <a:path fill="lighten" w="29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97" h="21600">
                <a:moveTo>
                  <a:pt x="7642" y="10800"/>
                </a:moveTo>
                <a:lnTo>
                  <a:pt x="21655" y="3794"/>
                </a:lnTo>
                <a:lnTo>
                  <a:pt x="2165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17680" y="442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s2t%20py2oms%20sh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10108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10800"/>
                </a:moveTo>
                <a:lnTo>
                  <a:pt x="19213" y="3794"/>
                </a:lnTo>
                <a:lnTo>
                  <a:pt x="1921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7680" y="442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anorama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4864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0773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97960" y="193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2280" y="19810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x Clusters – No mundo informatizado de hoje, os clusters se constituem no mais podero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nstrumento para a eficiente prática da caça aos DX. Praticamente todos os Softwares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Logs dispõe de uma grande quantidade de alternativ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080" y="51912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Pré – condições e pressup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9072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nter-se informado sobre as operações de Dx program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Neste sentido os boletins de Dx , os sites especializados na WEB e as informações nas próp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andas são as fontes de informação mais eficientemente utiliz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97180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studo e conhecimento mínimo dos vários aspectos relacionados com a “Propagação”. 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comendável dispor ou compartilhar com outros colegas de um software para anális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opagação – Vários deles são de uso gratuito – W6EL, VOACAP, WINCAP 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88620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Otimizar a sua estação, por mais simples que seja, ou compartilhar de estações de ou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mpanheiros ou clubes de D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57200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ocurar saber e estudar os vários direcionamentos de antenas (long e short path) para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várias áreas de Dx em todo o mundo. A internet disponibiliza inúmeros softwares “free”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o cálculo do direcionamento para qualquer DX desde a  sua localidade. Os softwares p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logs hoje disponíveis (muitos deles free) já dispõe da indicação automática em gra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58672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nhecer as regras principalmente do DXCC e adicionalmente outros certificados em que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operador esteja interess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17680" y="442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DSC000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17680" y="442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o2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305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7680" y="442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04760"/>
          <a:ext cx="7010280" cy="664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4760"/>
                    <a:ext cx="701028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8305920" y="5943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17680" y="442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76640" y="500040"/>
          <a:ext cx="4590720" cy="58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6640" y="500040"/>
                    <a:ext cx="459072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315200" y="5791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17680" y="442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280" y="990720"/>
          <a:ext cx="8915400" cy="513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90720"/>
                    <a:ext cx="891540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701028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7680" y="4428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VerteChair_1" descr=""/>
          <p:cNvPicPr/>
          <p:nvPr/>
        </p:nvPicPr>
        <p:blipFill>
          <a:blip r:embed="rId1"/>
          <a:stretch/>
        </p:blipFill>
        <p:spPr>
          <a:xfrm>
            <a:off x="457200" y="878040"/>
            <a:ext cx="8153280" cy="5054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7724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DSC01719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9608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ropagacao" descr=""/>
          <p:cNvPicPr/>
          <p:nvPr/>
        </p:nvPicPr>
        <p:blipFill>
          <a:blip r:embed="rId1"/>
          <a:stretch/>
        </p:blipFill>
        <p:spPr>
          <a:xfrm>
            <a:off x="609480" y="104760"/>
            <a:ext cx="8229600" cy="6647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543800" y="56386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7960" y="193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AO 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1113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stabelecimento de uma meta a ser alcançada em um determinado tempo. Ex X países em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080" y="51912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Pré – condições e pressupo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72080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preender sempre, através a escuta a operadores tradicionais de D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0660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Manter arquivo atualizado de seus scores, paises trabalhados, modo, banda etc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07656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A premissa que a prática esta nos ensinando todos os dias demonstra que a eficiência é d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dencia direta dos seguintes fatores na seguinte ordem de importâ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685800" y="386712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Informação qualific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Escuta qualific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Qualidade oper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Persistência com paciência e ded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Qualidade da est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7960" y="193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101916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eiramente supomos que o interessado tenha cumprido inicialmente com as pré-condiçõ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lencadas no item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9000" y="51912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Dicas de como trabalhar o 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752480"/>
            <a:ext cx="883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Dispor das chamadas as informações qualific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Captura da informação em Clusters ou boletins, qual a estação, freqüências de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operação, horários e tempo da Dx pedition, se for o caso, manager, melhores hor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de propagação para aquela localidade em cada banda, quais os modos e banda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necessitamos aquela figurinha. A faixa de “Gray Zone”é fundamental para qualqu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operação com qualidade nas bandas de 40, 80 e principalmente 160 me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A  marcação de schedule também é uma das práticas mais eficientes, principal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para estações de Dx mais comu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406728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Localizar a estação e orientar a antena na melhor posição, (long ou short path), e ante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qualquer chamada tirar o restante das informações sobre o forma de operação “ESCUTAND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4952880"/>
            <a:ext cx="883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er claro antes de qualquer chama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Operação split ou simplex e principalmente se simplex, qual o espectro de freqü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esc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Sintonizar o equipamento em outra freqüência, que não aquelas ocupadas pela estaç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 D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Verificar se o Dx esta atendendo por número ou regi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97960" y="193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914400"/>
            <a:ext cx="88394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Quando a operação é simplex (normalmente quando o DX não é tão raro e baixo pileup), a eficiência realmente é bastante dependente da qualidade da  sua estação, no entanto pode-se otimizar esta eficiência  com a observância das seguintes prátic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1160" y="519120"/>
            <a:ext cx="36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Dicas de como trabalhar o DX - Si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152280" y="1828800"/>
            <a:ext cx="8839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Novamente o “Escutar”é fund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Identificar se a estação esta chegando por long ou short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Sempre existe na operação de qualquer figurinha o que chamamos de” espaços mortos”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or vezes no término de um QSO, ou no final do cambio da estação trabalhada pel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igurinha, ou quando o pile up diminui. É uma questão de observação e devemos chamar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xatamente nestes espaços mor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Logicamente será sempre mais fácil trabalhar a figurinha quando ela estiver com 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ntena orientada para a sua região e com a propagação mais adequada para a noss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gi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É perda de tempo chamar uma figurinha, por exemplo, quando ela esta com anten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orientada para outra área, propagação adequada para aquela respectiva área e com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rande pile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Sempre é mais eficiente e mais fácil trabalhar a figurinha almejada mais no final d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operação com a coincidência do melhor horário de propagação para nossa ár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Nota-se portanto que a “informação qualificada” “Escuta”, “perseverança c/ paciência”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 “qualidade operacional”são mais importantes que a qualidade da estação.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97960" y="193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914400"/>
            <a:ext cx="883944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Em sua chamada declinar o seu indicativo completo e  foneticam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Quando trabalhar o DX o QSO deverá ser o mais curto possí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Se o DX  retornou dizendo corretamente o seu indicativo foneticamente, você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eve simplesmente confirmar o recebimento da reportagem da estação DX e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dar a sua reportag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Considere que o DX, naquele momento não esta interessado em saber seu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nome ou localização, ou qualquer outra informação de sua est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Por cortesia a seus colegas da mesma área (caso a sua estação seja mais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qualificada), quando o pile up não for muito intenso avisar o DX que outras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stações do seu país ou sua área geográfica estão na freqüê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Também por cortesia ao DX e aos caçadores de figurinhas, sempre que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ossível spotar  o DX indicando freqüências, modo e outra informação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importante sobre a oper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Lamentavelmente por ocasião das DxPeditions mais raras a freqüência pass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 ser invadida pelos supostos Xerifes, que se ocupam de comandar o processo, e não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oucas vêzes, monopolizar a freqüência por longo tempo ao avisar uma determinad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stação que a operação esta seguindo uma determinada prática, por exemplo , chamad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or número, ou por área.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1160" y="519120"/>
            <a:ext cx="36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Dicas de como trabalhar o DX - Si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97960" y="193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914400"/>
            <a:ext cx="8839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- Caso seja realmente necessária alguma intervenção, seja breve e objetivo e somente se a 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sua estação for qualificada para realmente ser escut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1160" y="519120"/>
            <a:ext cx="36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Dicas de como trabalhar o DX - Si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97960" y="193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ERAÇÃO  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16080"/>
            <a:ext cx="883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Nas  operações split, as quais acontecem invariavelmente nas Dx Peditions ou em operações de entidades raras, a necessidade de atenção ao cumprimento de todos os requisitos anteriores é mais necessária, pois neste caso na eficiência reside o X da questão e o trabalhar ou não a desejada figurinha. Estas são as dicas adicionais mais comu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1520" y="51912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Dicas de como trabalhar o DX - Sp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629080"/>
            <a:ext cx="883908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Cada operador de expedição experiente segue uma prática que a ele lhe parece a mais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dequada de gerenciar um pile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Uns preferem alargar o espectro de freqüência de recepção pedindo chamarem de 5 a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30 KHz acima, e outros preferem adensar o público em apenas 5 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Alguns preferem chamar por áreas ou por núme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Ao escutar atentamente o DX em poucos minutos identificamos estas práticas mais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mu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- Obedecer rigidamente as orientações da estação de Dx é condição sine-quo non do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oces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1:26:02Z</dcterms:created>
  <dc:creator>Atilano de Oms</dc:creator>
  <dc:description/>
  <dc:language>en-US</dc:language>
  <cp:lastModifiedBy>Rogeriop</cp:lastModifiedBy>
  <dcterms:modified xsi:type="dcterms:W3CDTF">2007-07-17T19:35:53Z</dcterms:modified>
  <cp:revision>47</cp:revision>
  <dc:subject/>
  <dc:title>Apresentação do PowerPoint</dc:title>
</cp:coreProperties>
</file>