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jpeg" ContentType="image/jpeg"/>
  <Override PartName="/ppt/media/image22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907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907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907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907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907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907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907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907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907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907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907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907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907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907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907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907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907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907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8001000" y="276120"/>
            <a:ext cx="1143000" cy="9432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0" y="6399360"/>
            <a:ext cx="1905120" cy="458640"/>
          </a:xfrm>
          <a:prstGeom prst="rect">
            <a:avLst/>
          </a:prstGeom>
          <a:ln w="0">
            <a:noFill/>
          </a:ln>
        </p:spPr>
      </p:pic>
      <p:pic>
        <p:nvPicPr>
          <p:cNvPr id="5" name="logo" descr=""/>
          <p:cNvPicPr/>
          <p:nvPr/>
        </p:nvPicPr>
        <p:blipFill>
          <a:blip r:embed="rId5"/>
          <a:stretch/>
        </p:blipFill>
        <p:spPr>
          <a:xfrm>
            <a:off x="0" y="6302520"/>
            <a:ext cx="2133720" cy="55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086600" y="5334120"/>
            <a:ext cx="1981080" cy="1447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52280" y="5638680"/>
            <a:ext cx="3962520" cy="955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hyperlink" Target="http://www.inpe.br/climaespacial" TargetMode="External"/><Relationship Id="rId6" Type="http://schemas.openxmlformats.org/officeDocument/2006/relationships/hyperlink" Target="http://www.inpe.br/climaespacial" TargetMode="External"/><Relationship Id="rId7" Type="http://schemas.openxmlformats.org/officeDocument/2006/relationships/hyperlink" Target="http://www.inpe.br/climaespacial" TargetMode="External"/><Relationship Id="rId8" Type="http://schemas.openxmlformats.org/officeDocument/2006/relationships/hyperlink" Target="http://www.inpe.br/climaespacial" TargetMode="External"/><Relationship Id="rId9" Type="http://schemas.openxmlformats.org/officeDocument/2006/relationships/hyperlink" Target="http://www.inpe.br/climaespacial" TargetMode="External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radioamador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ep1" descr=""/>
          <p:cNvPicPr/>
          <p:nvPr/>
        </p:nvPicPr>
        <p:blipFill>
          <a:blip r:embed="rId1"/>
          <a:stretch/>
        </p:blipFill>
        <p:spPr>
          <a:xfrm>
            <a:off x="3276720" y="533520"/>
            <a:ext cx="3886200" cy="2031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6781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pagação Transequatorial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87" name="logo" descr=""/>
          <p:cNvPicPr/>
          <p:nvPr/>
        </p:nvPicPr>
        <p:blipFill>
          <a:blip r:embed="rId2"/>
          <a:stretch/>
        </p:blipFill>
        <p:spPr>
          <a:xfrm>
            <a:off x="0" y="5607000"/>
            <a:ext cx="4876920" cy="1251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359800" y="4724280"/>
            <a:ext cx="4545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Flávio Archangelo PY2Z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6573960"/>
            <a:ext cx="1447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Jul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Histór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36 – Primeiros indícios, Amér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47 – VQ2PL (Zambia) x MD6KW (Suez); XE1KE x LU6DO, W7ACS/KH6 x VK5KL;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50 MHz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MI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0s – Desenv. 50 MHz (YV, TI, HK, PY, CE, JA, EU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59 – IGY/Propag Research ARRL (ZE2JV, ZC4WR, 5B4WR), ciclo 19, 28/50 MH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76 – YV5ZZ x LU7DJZ, ZL1VHF x K6QJS/KH6;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144 MHz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77 – YV5ZZ x LU1DAU, LU7DJZ, LU3AAT, LU3EMH, 144 MH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78, fev – YV5ZZ x LU3AAT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432 MHz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78, abril –ZE2JV x 5B4AZ, 5B4WR, SV1AB, SV1DH, 144 MH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78 – Research 2, ciclo 21, ZS6PW, SV1DH, ZS6DN, 5B4AZ, 5B4HY, SV1A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79 – ZE2JV x Atenas 432 MH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80, dez – SV1DH 2500 horas de monitoramento TE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982 – PY3BZM x J73PD, FM7CS,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144 MHz 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eqmag" descr=""/>
          <p:cNvPicPr/>
          <p:nvPr/>
        </p:nvPicPr>
        <p:blipFill>
          <a:blip r:embed="rId1"/>
          <a:stretch/>
        </p:blipFill>
        <p:spPr>
          <a:xfrm>
            <a:off x="3124080" y="1143000"/>
            <a:ext cx="5867640" cy="53085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Oportunidades e desaf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3809520"/>
            <a:ext cx="5638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ckscatt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vos países, grids, ilhas, expediçõ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20 MHz, 432 MHz, 1200 MHz (?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stes com antenas, FSK, et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adioescuta DXista em TV, FM-B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mites geográficos variáveis com t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map_mini" descr=""/>
          <p:cNvPicPr/>
          <p:nvPr/>
        </p:nvPicPr>
        <p:blipFill>
          <a:blip r:embed="rId2"/>
          <a:stretch/>
        </p:blipFill>
        <p:spPr>
          <a:xfrm>
            <a:off x="7772400" y="5715000"/>
            <a:ext cx="1076400" cy="857160"/>
          </a:xfrm>
          <a:prstGeom prst="rect">
            <a:avLst/>
          </a:prstGeom>
          <a:ln w="0">
            <a:noFill/>
          </a:ln>
        </p:spPr>
      </p:pic>
      <p:pic>
        <p:nvPicPr>
          <p:cNvPr id="139" name="tep_southpy" descr=""/>
          <p:cNvPicPr/>
          <p:nvPr/>
        </p:nvPicPr>
        <p:blipFill>
          <a:blip r:embed="rId3"/>
          <a:stretch/>
        </p:blipFill>
        <p:spPr>
          <a:xfrm>
            <a:off x="152280" y="1066680"/>
            <a:ext cx="2971800" cy="2328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13040" y="6019920"/>
            <a:ext cx="2497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FO Martinica nov/2004 &gt; 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14120" y="6497640"/>
            <a:ext cx="2655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OB Barbados 2005 &gt; SCar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514600" y="6477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1224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TEP em São Paulo 144 MH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4956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ticism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cedente DXCB, op anterior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alização geográfica favorá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ant_tep2" descr=""/>
          <p:cNvPicPr/>
          <p:nvPr/>
        </p:nvPicPr>
        <p:blipFill>
          <a:blip r:embed="rId1"/>
          <a:stretch/>
        </p:blipFill>
        <p:spPr>
          <a:xfrm>
            <a:off x="5029200" y="4200480"/>
            <a:ext cx="4114800" cy="2657520"/>
          </a:xfrm>
          <a:prstGeom prst="rect">
            <a:avLst/>
          </a:prstGeom>
          <a:ln w="0">
            <a:noFill/>
          </a:ln>
        </p:spPr>
      </p:pic>
      <p:pic>
        <p:nvPicPr>
          <p:cNvPr id="147" name="MAP" descr=""/>
          <p:cNvPicPr/>
          <p:nvPr/>
        </p:nvPicPr>
        <p:blipFill>
          <a:blip r:embed="rId2"/>
          <a:stretch/>
        </p:blipFill>
        <p:spPr>
          <a:xfrm>
            <a:off x="0" y="3048120"/>
            <a:ext cx="2097000" cy="3124080"/>
          </a:xfrm>
          <a:prstGeom prst="rect">
            <a:avLst/>
          </a:prstGeom>
          <a:ln w="0">
            <a:noFill/>
          </a:ln>
        </p:spPr>
      </p:pic>
      <p:pic>
        <p:nvPicPr>
          <p:cNvPr id="148" name="tep_ant2" descr=""/>
          <p:cNvPicPr/>
          <p:nvPr/>
        </p:nvPicPr>
        <p:blipFill>
          <a:blip r:embed="rId3"/>
          <a:stretch/>
        </p:blipFill>
        <p:spPr>
          <a:xfrm>
            <a:off x="6248520" y="2209680"/>
            <a:ext cx="2895480" cy="1971720"/>
          </a:xfrm>
          <a:prstGeom prst="rect">
            <a:avLst/>
          </a:prstGeom>
          <a:ln w="0">
            <a:noFill/>
          </a:ln>
        </p:spPr>
      </p:pic>
      <p:pic>
        <p:nvPicPr>
          <p:cNvPr id="149" name="barbados" descr=""/>
          <p:cNvPicPr/>
          <p:nvPr/>
        </p:nvPicPr>
        <p:blipFill>
          <a:blip r:embed="rId4"/>
          <a:stretch/>
        </p:blipFill>
        <p:spPr>
          <a:xfrm>
            <a:off x="457200" y="609480"/>
            <a:ext cx="571680" cy="343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499200" y="2895480"/>
            <a:ext cx="2143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46,910 MHz RPT: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9560" y="3429000"/>
            <a:ext cx="22640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46,450 MHz Direto: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312408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312408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>
            <a:off x="2514600" y="4876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968200" y="4876920"/>
            <a:ext cx="1738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46,910 MHz: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>
            <a:off x="251460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012840" y="5943600"/>
            <a:ext cx="1639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50,110 MHz: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51460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044880" y="5410080"/>
            <a:ext cx="1540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00,7 MHz: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q" descr=""/>
          <p:cNvPicPr/>
          <p:nvPr/>
        </p:nvPicPr>
        <p:blipFill>
          <a:blip r:embed="rId1"/>
          <a:stretch/>
        </p:blipFill>
        <p:spPr>
          <a:xfrm>
            <a:off x="4419720" y="1371600"/>
            <a:ext cx="3886200" cy="5000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TEP na imprens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2" name="cqdlcapa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3654360" cy="5029200"/>
          </a:xfrm>
          <a:prstGeom prst="rect">
            <a:avLst/>
          </a:prstGeom>
          <a:ln w="0">
            <a:noFill/>
          </a:ln>
        </p:spPr>
      </p:pic>
      <p:pic>
        <p:nvPicPr>
          <p:cNvPr id="163" name="Dubus_little" descr=""/>
          <p:cNvPicPr/>
          <p:nvPr/>
        </p:nvPicPr>
        <p:blipFill>
          <a:blip r:embed="rId3"/>
          <a:stretch/>
        </p:blipFill>
        <p:spPr>
          <a:xfrm>
            <a:off x="6675480" y="3371760"/>
            <a:ext cx="2468520" cy="3486240"/>
          </a:xfrm>
          <a:prstGeom prst="rect">
            <a:avLst/>
          </a:prstGeom>
          <a:ln w="0">
            <a:noFill/>
          </a:ln>
        </p:spPr>
      </p:pic>
      <p:pic>
        <p:nvPicPr>
          <p:cNvPr id="164" name="cqdlin" descr=""/>
          <p:cNvPicPr/>
          <p:nvPr/>
        </p:nvPicPr>
        <p:blipFill>
          <a:blip r:embed="rId4"/>
          <a:stretch/>
        </p:blipFill>
        <p:spPr>
          <a:xfrm>
            <a:off x="2971800" y="3200400"/>
            <a:ext cx="25542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DSC01137" descr=""/>
          <p:cNvPicPr/>
          <p:nvPr/>
        </p:nvPicPr>
        <p:blipFill>
          <a:blip r:embed="rId1"/>
          <a:stretch/>
        </p:blipFill>
        <p:spPr>
          <a:xfrm>
            <a:off x="4343400" y="3657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Visita ao INP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7" name="DSC01105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68" name="DSC01106" descr=""/>
          <p:cNvPicPr/>
          <p:nvPr/>
        </p:nvPicPr>
        <p:blipFill>
          <a:blip r:embed="rId3"/>
          <a:stretch/>
        </p:blipFill>
        <p:spPr>
          <a:xfrm>
            <a:off x="4191120" y="12952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69" name="DSC01121" descr=""/>
          <p:cNvPicPr/>
          <p:nvPr/>
        </p:nvPicPr>
        <p:blipFill>
          <a:blip r:embed="rId4"/>
          <a:stretch/>
        </p:blipFill>
        <p:spPr>
          <a:xfrm>
            <a:off x="1219320" y="380988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507840" y="5911920"/>
            <a:ext cx="536544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tal Clima Espac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http</a:t>
            </a:r>
            <a:r>
              <a:rPr b="0" lang="pt-BR" sz="28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://www.inpe.</a:t>
            </a:r>
            <a:r>
              <a:rPr b="0" lang="pt-BR" sz="28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br</a:t>
            </a:r>
            <a:r>
              <a:rPr b="0" lang="pt-BR" sz="28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/</a:t>
            </a:r>
            <a:r>
              <a:rPr b="0" lang="pt-BR" sz="28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climaespaci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Sugestões fina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238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Quando escutar Caribe em 28/50 MHz, tente em 144 MHz, chame para QSY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QRGs CQ DX SSB/CW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144,200 MHz     144,300 MHz    432,100 MH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se antenas direcionai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aixas como de TV-VHF e FM-BC baliza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ique atento ao DX Cluster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unique-se com outros DXistas, ske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Fon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tep_comprida_island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5942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887640" y="533520"/>
            <a:ext cx="1344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Fo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7680" y="6324480"/>
            <a:ext cx="2934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Ilha Comprida – SP – Japy 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447920"/>
            <a:ext cx="807696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Cracknell, R. G. Transequatorial Propagation of VHF Signals. QST December 195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____________. Anderson, Fred. Fimerelis, Costas. The Euro-Asia to Africa VH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Transequatorial Circuito During Solar Cycle 21. Part 1, QST Nov 1981. Part 2,  QST Dec 198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oole, Ian. Radio Propagation. Principles &amp; Practice. RSGB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Reisert, Joseph. Pfeffer, Gene. A Newly Discovered Mode of VHF Propagation.  QST October 197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Sprengel, Peter : </a:t>
            </a:r>
            <a:r>
              <a:rPr b="0" lang="pt-BR" sz="2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tp://www.radioamador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Tilton, Ed. TE Propagation – VHF Discovery Extraordinary. QST April 196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Whiting, R. How Does TE Work?QST April 196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map_carib" descr=""/>
          <p:cNvPicPr/>
          <p:nvPr/>
        </p:nvPicPr>
        <p:blipFill>
          <a:blip r:embed="rId1"/>
          <a:stretch/>
        </p:blipFill>
        <p:spPr>
          <a:xfrm>
            <a:off x="4648320" y="3108240"/>
            <a:ext cx="4495680" cy="3749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roduçã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agação Ionosféric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eta o HF (21/28 MHz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inge o VHF e UHF (432 MHz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000 ~ 8.000 km (recordes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ibe, N. América do Su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 50 IOTAs, + 40 “países”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OTA, VUCC, DXCC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ixa do ciclo solar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tências modesta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riz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logo" descr=""/>
          <p:cNvPicPr/>
          <p:nvPr/>
        </p:nvPicPr>
        <p:blipFill>
          <a:blip r:embed="rId2"/>
          <a:stretch/>
        </p:blipFill>
        <p:spPr>
          <a:xfrm>
            <a:off x="0" y="6302520"/>
            <a:ext cx="2133720" cy="555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76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Áreas abrangid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520" y="1294920"/>
            <a:ext cx="4952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quador Geomagnétic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imetria aproximad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ntido Norte-Su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Áreas determinadas do glob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6095880"/>
            <a:ext cx="624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to maior a QRG, menor a área, menor o tempo de abertura, maior o fading e maior o sprea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logo" descr=""/>
          <p:cNvPicPr/>
          <p:nvPr/>
        </p:nvPicPr>
        <p:blipFill>
          <a:blip r:embed="rId1"/>
          <a:stretch/>
        </p:blipFill>
        <p:spPr>
          <a:xfrm>
            <a:off x="0" y="6302520"/>
            <a:ext cx="2133720" cy="555480"/>
          </a:xfrm>
          <a:prstGeom prst="rect">
            <a:avLst/>
          </a:prstGeom>
          <a:ln w="0">
            <a:noFill/>
          </a:ln>
        </p:spPr>
      </p:pic>
      <p:pic>
        <p:nvPicPr>
          <p:cNvPr id="98" name="dip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6867720" cy="2600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Áreas Abrangid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0" name="afr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357720" cy="3581280"/>
          </a:xfrm>
          <a:prstGeom prst="rect">
            <a:avLst/>
          </a:prstGeom>
          <a:ln w="0">
            <a:noFill/>
          </a:ln>
        </p:spPr>
      </p:pic>
      <p:pic>
        <p:nvPicPr>
          <p:cNvPr id="101" name="tep_america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392580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Ionosfera: Região Equatorial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3" name="logo" descr=""/>
          <p:cNvPicPr/>
          <p:nvPr/>
        </p:nvPicPr>
        <p:blipFill>
          <a:blip r:embed="rId1"/>
          <a:stretch/>
        </p:blipFill>
        <p:spPr>
          <a:xfrm>
            <a:off x="0" y="6302520"/>
            <a:ext cx="2133720" cy="555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143000"/>
            <a:ext cx="914400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omalia Equatorial &gt; Alta MUF &gt;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F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&gt; Sunset &gt; Altitude F &gt; camada “fracionada”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 diferentes densidades &gt; meio não uniforme (irregularidades) e dinâmico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 cintilações &gt; fading &gt; Doppler &gt; reflexão entre as áreas &gt; alinhament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5029200"/>
            <a:ext cx="335268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m “reflexão” solo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 D ausente &gt; Eventual Es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 menor ATT &gt; sinais fo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tep1a" descr=""/>
          <p:cNvPicPr/>
          <p:nvPr/>
        </p:nvPicPr>
        <p:blipFill>
          <a:blip r:embed="rId2"/>
          <a:stretch/>
        </p:blipFill>
        <p:spPr>
          <a:xfrm>
            <a:off x="76320" y="2362320"/>
            <a:ext cx="5257800" cy="2098440"/>
          </a:xfrm>
          <a:prstGeom prst="rect">
            <a:avLst/>
          </a:prstGeom>
          <a:ln w="0">
            <a:noFill/>
          </a:ln>
        </p:spPr>
      </p:pic>
      <p:pic>
        <p:nvPicPr>
          <p:cNvPr id="107" name="tep2" descr=""/>
          <p:cNvPicPr/>
          <p:nvPr/>
        </p:nvPicPr>
        <p:blipFill>
          <a:blip r:embed="rId3"/>
          <a:stretch/>
        </p:blipFill>
        <p:spPr>
          <a:xfrm>
            <a:off x="3733920" y="4635360"/>
            <a:ext cx="5257800" cy="2222640"/>
          </a:xfrm>
          <a:prstGeom prst="rect">
            <a:avLst/>
          </a:prstGeom>
          <a:ln w="0">
            <a:noFill/>
          </a:ln>
        </p:spPr>
      </p:pic>
      <p:pic>
        <p:nvPicPr>
          <p:cNvPr id="108" name="earth" descr=""/>
          <p:cNvPicPr/>
          <p:nvPr/>
        </p:nvPicPr>
        <p:blipFill>
          <a:blip r:embed="rId4"/>
          <a:stretch/>
        </p:blipFill>
        <p:spPr>
          <a:xfrm>
            <a:off x="5715000" y="2133720"/>
            <a:ext cx="2895480" cy="2571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Ionosfera: Região Equatori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0" name="andre_02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4572000" cy="2549520"/>
          </a:xfrm>
          <a:prstGeom prst="rect">
            <a:avLst/>
          </a:prstGeom>
          <a:ln w="0">
            <a:noFill/>
          </a:ln>
        </p:spPr>
      </p:pic>
      <p:pic>
        <p:nvPicPr>
          <p:cNvPr id="111" name="n316a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3429000" cy="3454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728600" y="6019920"/>
            <a:ext cx="3807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olhas Ionosféricas, Cachoeira P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racterísticas Gera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295280"/>
            <a:ext cx="533412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al muito for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torções no áud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ding muito rápi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ppler (aprox. 300 Hz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cos, delay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pread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uídos (Rodhesia-Cyprus S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Áreas variam na mesma abertu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uzzy but not weak!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ro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ivaliza com outras propag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Tropo, Es, D; transição F &gt; T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logo" descr=""/>
          <p:cNvPicPr/>
          <p:nvPr/>
        </p:nvPicPr>
        <p:blipFill>
          <a:blip r:embed="rId1"/>
          <a:stretch/>
        </p:blipFill>
        <p:spPr>
          <a:xfrm>
            <a:off x="0" y="6302520"/>
            <a:ext cx="2133720" cy="555480"/>
          </a:xfrm>
          <a:prstGeom prst="rect">
            <a:avLst/>
          </a:prstGeom>
          <a:ln w="0">
            <a:noFill/>
          </a:ln>
        </p:spPr>
      </p:pic>
      <p:pic>
        <p:nvPicPr>
          <p:cNvPr id="116" name="qrg" descr=""/>
          <p:cNvPicPr/>
          <p:nvPr/>
        </p:nvPicPr>
        <p:blipFill>
          <a:blip r:embed="rId2"/>
          <a:stretch/>
        </p:blipFill>
        <p:spPr>
          <a:xfrm>
            <a:off x="6095880" y="2103480"/>
            <a:ext cx="2210040" cy="20113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87600" y="4800600"/>
            <a:ext cx="2925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46,640 MHz: J73CPL &gt; Itap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791320" y="48006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88320" y="5486400"/>
            <a:ext cx="2893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44,200 MHz: FM5CS &gt; Itap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791320" y="5486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900" spc="-1" strike="noStrike">
                <a:solidFill>
                  <a:srgbClr val="330066"/>
                </a:solidFill>
                <a:latin typeface="Arial"/>
              </a:rPr>
              <a:t>Características Gerai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09680" y="10663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quinócio bom, Solstício ruim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t: out/nov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elhor com alto SFI (quiet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eríodo noturn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2 a 3 horas após suns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logo" descr=""/>
          <p:cNvPicPr/>
          <p:nvPr/>
        </p:nvPicPr>
        <p:blipFill>
          <a:blip r:embed="rId1"/>
          <a:stretch/>
        </p:blipFill>
        <p:spPr>
          <a:xfrm>
            <a:off x="0" y="6302520"/>
            <a:ext cx="2133720" cy="555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69960" y="3438360"/>
            <a:ext cx="413064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EP, FF, TE-F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nal tarde-início noi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ixo VHF, 70/90 MH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nor distor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5000~6000 km (V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3438360"/>
            <a:ext cx="380988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TEP, TEP-FAI, TE p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000~2300 LT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prox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o VHF, baixo UHF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ito fading, doppl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000~8000 km (V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800px-Earth-lighting-equinox_EN" descr="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201680"/>
          </a:xfrm>
          <a:prstGeom prst="rect">
            <a:avLst/>
          </a:prstGeom>
          <a:ln w="0">
            <a:noFill/>
          </a:ln>
        </p:spPr>
      </p:pic>
      <p:pic>
        <p:nvPicPr>
          <p:cNvPr id="127" name="800px-Earth-lighting-winter-solstice_EN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1200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952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482800" y="6248520"/>
            <a:ext cx="20444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BC 0030 LT 25 jan 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fm5cs" descr=""/>
          <p:cNvPicPr/>
          <p:nvPr/>
        </p:nvPicPr>
        <p:blipFill>
          <a:blip r:embed="rId1"/>
          <a:stretch/>
        </p:blipFill>
        <p:spPr>
          <a:xfrm>
            <a:off x="6781680" y="5092560"/>
            <a:ext cx="2362320" cy="17654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açõ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6629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ixa potência: possível mas QRO melh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5ZZ x LU3AAT (10 W não, 100 W sim) 144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r potência = menor tempo de trabal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nidirecional: possível mas direcional melh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ado relativo do alto ganh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5JJ, 6m dish ~ ZE2JV, Yagi 8 ele hor &gt; Atenas 4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TH distante &gt; menor ângulo ZS6DN, ZS3B, I4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vação: depende QTH. Não conclus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V1AB – ZE2JV = 20 graus Yagi 9 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3AAT – YV6ASU/YV5ZZ/KV4FZ = 8/12 graus 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5ZZ = 10 gr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inação: Depende QTH. Não conclus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B4WR = 15 graus para Oeste do short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6:19:12Z</dcterms:created>
  <dc:creator>emerick</dc:creator>
  <dc:description/>
  <dc:language>en-US</dc:language>
  <cp:lastModifiedBy>*</cp:lastModifiedBy>
  <dcterms:modified xsi:type="dcterms:W3CDTF">2008-07-26T07:39:17Z</dcterms:modified>
  <cp:revision>56</cp:revision>
  <dc:subject/>
  <dc:title>Slide 1</dc:title>
</cp:coreProperties>
</file>