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89B5-CC15-486F-893D-C04ABD87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341-7D8E-489D-9E2C-266488C5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2C36-18CB-4D4E-BF3F-CF42A624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A3F-E4E7-4DD3-BD5E-96450A3B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55C3-C988-472E-B4D7-2AFE70AE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1FD6-24DE-486A-B78E-082AAFE7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BC78-5C5C-4E24-B701-EC20AB35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0EBA-8DE7-43A6-83DB-A786C81D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2727-3D8F-4A17-ABB5-3C882022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FE9E-3F7E-42B2-A4B4-086A4680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998C-DCA1-4E6F-8301-0556B30D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1957-673A-43FD-8DFD-7E08FB6F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A1C9-5214-4CDA-BB1C-B1E8AEAE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82BE-C063-4CE1-831D-733B6049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C8A7-2B4E-4439-9E27-A15F60BF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F0B0-0387-45F3-9CC8-6BBAB089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C57C-2FFA-4CF2-AEF7-42D16C78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1FA-8976-4C62-8A25-E9508C3E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6A0-07F6-49A7-9BB0-968A127F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ABD-C3BD-498A-99F3-D06A3946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932-359E-4D17-80B5-A04017E6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2CB6-42BA-4F87-9B1B-F947A87D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186C-23BF-4C8A-AFC6-36E6E7C2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EE7-E57B-423C-9F66-80FF7F34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7196-6F30-4C4B-9F6F-6255092CC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7321-D404-4BBB-9D79-FA986CB49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Ruídos e Interferência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Arial"/>
              </a:rPr>
              <a:t>Luciano Scandelar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Arial"/>
              </a:rPr>
              <a:t>PY5K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90640" cy="9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FC54-5E62-447D-8658-7DBD5117C14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ispositivos Diverso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Dimm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Termostato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Fontes chavead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Lâmpadas Fluorescentes (reatore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Motor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Monitores (CRT e LCD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F3C-49F3-4755-B727-F9DDD88DA3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336666"/>
                </a:solidFill>
                <a:latin typeface="Arial Black"/>
              </a:rPr>
              <a:t>Overloa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presença de um sinal de alta intensidade, mesmo fora de banda, pode gerar ruídos NO RECEP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de aparecer como um ruído branco de alta intensidade em todas as faix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B259-F0B6-4F6A-93C5-4BB29D6092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336666"/>
                </a:solidFill>
                <a:latin typeface="Arial Black"/>
              </a:rPr>
              <a:t>Overload - Origem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Transmissores de FM e TV próximo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ERB (Estações rádio Base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Radar (em aeroporto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Outras estações amadoras próximas (em Banda baixa e/ou multiop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AB2-26D2-418F-AB1D-EC199A4B08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336666"/>
                </a:solidFill>
                <a:latin typeface="Arial Black"/>
              </a:rPr>
              <a:t>Overload - Causa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Retificação do sinal ou saturação nos circuitos ativos de entrada (LNA, PREAMP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Saturação dos núcleos dos indutores dos filtros de entra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Diodo Centelhador a Gás da entrada do R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Conectores oxidad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Nível excessivo na entrada do conversor AD do DSP do rádio (rádios com FI em DSP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9415-12D0-4E7D-8314-DB2032D544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336666"/>
                </a:solidFill>
                <a:latin typeface="Arial Black"/>
              </a:rPr>
              <a:t>Overload - Prevençã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Utilizar atenuador (nem sempre possível) ou desligar o pream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Antenas direcionais (em posição diferente da fonte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Filtros passa-baixas (FM e TV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Filtros passa-banda (MultiOp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Escolha do rád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78C-09B0-4D77-9573-651DCBA95A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Emissões Espúria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Dispositivos Divers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m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rmost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ontes chave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âmpadas Fluorescentes (reator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nitores (CRT e LC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utomóveis/Mo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uga de TV a cab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24C-57B1-4C2A-950A-FC7709CC36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66"/>
                </a:solidFill>
                <a:latin typeface="Arial Black"/>
              </a:rPr>
              <a:t>Arquitetura e Projeto do Rádio</a:t>
            </a:r>
            <a:br>
              <a:rPr sz="3400"/>
            </a:br>
            <a:endParaRPr b="0" lang="en-US" sz="3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Ruído de Fase dos Oscilado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Fuga de Portadora dos Osciladores Loca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Reciprocal Mixing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Saturação dos indutores (Em TX e RX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Falta de filtragem dos Harmônic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Baixa rejeição dos ruídos da aliment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Interferência dos circuitos digitais nos circuitos analógicos dentro do rádi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Blindagem inadequa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9AE-43B2-4112-BF2F-29A9AFC389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pagação do Ruíd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Radiação Eletromagnética (como RF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Condução (pelos fio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Indução (como em um transformador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Reradiação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F8D6-CFB1-4E07-8C8B-34138FF447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pagação – Radiação Eletromagnétic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ruído gerado se irradia como um sinal de rá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ve-se evitar a radiação. Uma vez radiado, não há o que se faz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evitar radiação, o problema deve ser localizado e solucion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feito Corona – Geralmente algumas centenas de met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entelhamento – Geralmente até uns 2k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uidado: O ruído gerado em um poste pode ser conduzido pelos cabos e irradiado em pontos distantes (algumas dezenas de metros) após a fonte – Isto dificulta a localização da fo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F28C-7316-4CF3-AFA2-75B312F4ED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pagação - Conduçã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O ruído é conduzido pelos cabos elétricos (alimentação e antena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Pode ser eliminado com filtro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assa-Baixas (alguns kHz) para Telef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assa-Altas (&gt;50MHz) para T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Se o filtro for ineficiente, o sinal conduzido pode causar overload no recept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51D-52F0-4592-B796-2E141C7DF3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Bandido ou Mocinho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75596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ocê está interferin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ocê está sofrendo interferênci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final, quem é o culpado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4F34-D55E-4A29-A637-177B01BBE5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uído de modo comum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uidado com as correntes de modo com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iltros convencionais são inúte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sar filtro de modo comum (geralmente com toroides de ferri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cabos coaxias, enrolar 3 a 4 voltas em um núcleo toroid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fios duplos (Telefone ou Rede), enrolar cada fio no sentido inverso para anular a corrente de modo com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locar o filtro próximo (2 a 3cm) da entrada do conector da TV a cab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iltros de modo comum no cabo coaxial do TX reduzem os efeitos da RFI em caso de SWR elev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FAAA-2492-4882-918B-842B26986E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uído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odo comum x diferencia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2590920"/>
            <a:ext cx="4248360" cy="2906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427640" y="2678040"/>
            <a:ext cx="4203720" cy="272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860-BA4B-4D0F-BF83-30088C44BC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upressão de Ruído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odo comum x diferencia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4319640" cy="2683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00720" y="2492280"/>
            <a:ext cx="4464000" cy="282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1E01-5D8C-467B-980B-0540B1371E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upressão de ruído de modo diferencial com capacitor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543280" cy="441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F468-BF55-4FDA-953B-D6C2E4C205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dutores de Modo Comum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6769080" cy="4494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588000" y="3716280"/>
            <a:ext cx="2305080" cy="178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6DD4-D1A0-4E80-8C0E-E79F6EE4E0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terramento x Ruíd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Aterramento é efetivo para descarregar correntes de descargas atmosfér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geral o aterramento não tem efeito sobre ruíd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aterramento da carcaça do rádio é importante para segurança, porém ineficiente para ruídos (comprimento dos cabos de aterramento long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alguns casos o aterramento de diversos equipamentos (em pontos diferentes) pode GERAR ruído – Erros de aterr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MPRE utilizar configuração estrela – todos os equipamentos aterrados em um único ponto do Sh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AC1-7EF0-4EDF-B479-9E8FA11187A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clusã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Existem inúmeras fontes de ruí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Ruídos de Linha ocorrem com maior frequência – São os mais fáceis de localiz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Arquitetura do rádio pode atrapalh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O tema merece atualização consta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E8C-D400-4D72-8133-E45A5BF4CE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Bibliografi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C Power Interference Handbook, KB7K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The ARRL RFI Book (ARR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Differential and Comon Mode Noise – Murata Cor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ção “Ruídos de Linha “, PY5E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76F-F841-4DDB-A097-281EF37005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OBRIGADO!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73 de PY5K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Lucian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py5kd@onda.com.b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BC8-A11D-43E9-AC86-434E622AE6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4 Tipos de Interferência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uído de Lin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ado por uma fonte eletromagn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feito Corona, Ruído de Linha e Centelh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verload (Sobrecar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ado pela fundamental do s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issões Espú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armônicas de um sinal ou sinais indesej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das pela Arquitetura e Projeto do Rá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52B-CE30-4AF1-A387-3B198BF62F6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uído de Linha – Efeito Coron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ado pela ionização do ar em linhas de Média (13kV) e Alta Ten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z uma luz violeta ou azul claro que é visível a no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fere até 30MHz (Tempo Seco) e até em VHF com tempo úmi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rcional a umidade e pressão atmosfé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B1F-7D1C-4802-A56D-FD804C6B4EF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Efeito Corona - Causa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Emendas bimetálic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Amarração da linha nos isolador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Conexões em derivaçõ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Arames pendurados na linh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Elementos pontiagudo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Lixo na linh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Fonte: PY5E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A108-0A7D-44D4-B88A-572202D383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uído de Linha – Fuga a Terr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-ra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aves Fusí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oladores de disco e de p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uzetas de madeira (c/ baixo isolamen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lhos de arvore fazendo semi conexão a ter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inhos de pássaros "João de Barro" próximo ao isolador de pino na cruz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Y5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8A8-07A3-4D0D-82B8-651EE9D35F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6666"/>
                </a:solidFill>
                <a:latin typeface="Arial Black"/>
              </a:rPr>
              <a:t>Centelhamento (Spark)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Spark ocorre quando há o rompimento momentâneo de um dielétrico (isolador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Gera impulsos de corrente de curta dur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s harmônicas destes impulsos chegam a faixa de UH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 maior causa de ruído em linhas de transmissão é gerada por centelhamento e não por efeito Coro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Podem gerar um sinal audível e detectável com detector ultrasônic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043B-FC21-4F89-B0C5-0D3F703B9A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336666"/>
                </a:solidFill>
                <a:latin typeface="Arial Black"/>
              </a:rPr>
              <a:t>Centelhamento Entre Condutores e Porcelana Isoladora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usado em geral por más CONEXÕES (soltas ou oxidadas) entre metais, e não pelos isoladores propria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usadas por isoladores trincados ou sujos (maresia acumula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3411-37C1-4EED-92E8-E56467007E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336666"/>
                </a:solidFill>
                <a:latin typeface="Arial Black"/>
              </a:rPr>
              <a:t>Centelhamento Entre Dois Condutores - Causa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exões Froux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xidaçã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mendas entre dois metais diferentes (efeito de retificação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os metálicos (lixo) jogados na linh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tores (Escova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ucaria DX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BA6-3958-4A72-94A1-886CFA6965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7:53:17Z</dcterms:created>
  <dc:creator>Luciano</dc:creator>
  <dc:description/>
  <dc:language>en-US</dc:language>
  <cp:lastModifiedBy>Luciano</cp:lastModifiedBy>
  <dcterms:modified xsi:type="dcterms:W3CDTF">2008-07-26T03:26:59Z</dcterms:modified>
  <cp:revision>18</cp:revision>
  <dc:subject/>
  <dc:title>Ruídos e Interferência</dc:title>
</cp:coreProperties>
</file>