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BB37-1F85-4D81-969D-97A6C584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0C48-4D27-422F-A80D-60059979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2088-C3E5-46EA-82C8-602BB96B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2A51-8536-44E9-94F6-058D16C1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79CC-86DE-4249-8176-15AB27DE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F4C3-ECFF-4F58-842B-0D47F501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AA00-9D9D-4832-84EB-84DD3060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B94C-1DEE-4CBD-9B37-B4AC83EC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E3AF-6268-4B2A-99C0-5ADD7706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2B5F-8FDA-4E95-AE58-E8C43D45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FCCF-A769-4195-B133-F128C60D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2651-DA85-4129-AAE9-BFC803AD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CBDA-A055-4EA6-AC25-24F801769C1A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felipe@dxwatch.com" TargetMode="External"/><Relationship Id="rId3" Type="http://schemas.openxmlformats.org/officeDocument/2006/relationships/hyperlink" Target="mailto:felipe@dxwatch.com" TargetMode="External"/><Relationship Id="rId4" Type="http://schemas.openxmlformats.org/officeDocument/2006/relationships/hyperlink" Target="mailto:felipe@dxwatch.com" TargetMode="External"/><Relationship Id="rId5" Type="http://schemas.openxmlformats.org/officeDocument/2006/relationships/hyperlink" Target="mailto:felipe@dxwatch.com" TargetMode="External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image" Target="../media/image13.jpeg"/><Relationship Id="rId4" Type="http://schemas.openxmlformats.org/officeDocument/2006/relationships/slide" Target="slide24.xml"/><Relationship Id="rId5" Type="http://schemas.openxmlformats.org/officeDocument/2006/relationships/image" Target="../media/image14.png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slide" Target="slide25.xml"/><Relationship Id="rId9" Type="http://schemas.openxmlformats.org/officeDocument/2006/relationships/image" Target="../media/image16.jpeg"/><Relationship Id="rId10" Type="http://schemas.openxmlformats.org/officeDocument/2006/relationships/slide" Target="slide26.xml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kimmer.dxwatch.com/" TargetMode="External"/><Relationship Id="rId3" Type="http://schemas.openxmlformats.org/officeDocument/2006/relationships/hyperlink" Target="http://skimmer.dxwatch.com/" TargetMode="External"/><Relationship Id="rId4" Type="http://schemas.openxmlformats.org/officeDocument/2006/relationships/hyperlink" Target="http://skimmer.dxwatch.com/" TargetMode="External"/><Relationship Id="rId5" Type="http://schemas.openxmlformats.org/officeDocument/2006/relationships/hyperlink" Target="http://skimmer.dxwatch.com/" TargetMode="External"/><Relationship Id="rId6" Type="http://schemas.openxmlformats.org/officeDocument/2006/relationships/hyperlink" Target="http://skimmer.dxwatch.com/" TargetMode="External"/><Relationship Id="rId7" Type="http://schemas.openxmlformats.org/officeDocument/2006/relationships/hyperlink" Target="http://skimmer.dxwatch.com/" TargetMode="External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r.groups.yahoo.com/group/RIO-DX-GROUP/" TargetMode="External"/><Relationship Id="rId3" Type="http://schemas.openxmlformats.org/officeDocument/2006/relationships/hyperlink" Target="http://br.groups.yahoo.com/group/RIO-DX-GROUP/" TargetMode="External"/><Relationship Id="rId4" Type="http://schemas.openxmlformats.org/officeDocument/2006/relationships/hyperlink" Target="http://br.groups.yahoo.com/group/RIO-DX-GROUP/" TargetMode="External"/><Relationship Id="rId5" Type="http://schemas.openxmlformats.org/officeDocument/2006/relationships/hyperlink" Target="http://br.groups.yahoo.com/group/RIO-DX-GROUP/" TargetMode="External"/><Relationship Id="rId6" Type="http://schemas.openxmlformats.org/officeDocument/2006/relationships/hyperlink" Target="http://br.groups.yahoo.com/group/RIO-DX-GROUP/" TargetMode="External"/><Relationship Id="rId7" Type="http://schemas.openxmlformats.org/officeDocument/2006/relationships/hyperlink" Target="http://br.groups.yahoo.com/group/RIO-DX-GROUP/" TargetMode="External"/><Relationship Id="rId8" Type="http://schemas.openxmlformats.org/officeDocument/2006/relationships/hyperlink" Target="http://br.groups.yahoo.com/group/RIO-DX-GROUP/" TargetMode="External"/><Relationship Id="rId9" Type="http://schemas.openxmlformats.org/officeDocument/2006/relationships/hyperlink" Target="http://br.groups.yahoo.com/group/RIO-DX-GROUP/" TargetMode="External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60720"/>
            <a:ext cx="77724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dddddd"/>
                </a:solidFill>
                <a:latin typeface="Arial Unicode MS"/>
              </a:rPr>
              <a:t>FENARCOM 2008</a:t>
            </a:r>
            <a:endParaRPr b="0" lang="en-US" sz="5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"/>
          <p:cNvSpPr/>
          <p:nvPr/>
        </p:nvSpPr>
        <p:spPr>
          <a:xfrm>
            <a:off x="1332000" y="393372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dddddd"/>
                </a:solidFill>
                <a:latin typeface="Arial Unicode MS"/>
              </a:rPr>
              <a:t>ATIVIDADES E PROJETO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DSC02216" descr=""/>
          <p:cNvPicPr/>
          <p:nvPr/>
        </p:nvPicPr>
        <p:blipFill>
          <a:blip r:embed="rId2"/>
          <a:stretch/>
        </p:blipFill>
        <p:spPr>
          <a:xfrm>
            <a:off x="762120" y="1828800"/>
            <a:ext cx="6858000" cy="44197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dddddd"/>
                </a:solidFill>
                <a:latin typeface="Arial Unicode MS"/>
              </a:rPr>
              <a:t>PR1T TEAM – Estação de Contestes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0" name="estação%20pr1t" descr=""/>
          <p:cNvPicPr/>
          <p:nvPr/>
        </p:nvPicPr>
        <p:blipFill>
          <a:blip r:embed="rId3"/>
          <a:stretch/>
        </p:blipFill>
        <p:spPr>
          <a:xfrm>
            <a:off x="5867280" y="426708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dddddd"/>
                </a:solidFill>
                <a:latin typeface="Arial Unicode MS"/>
              </a:rPr>
              <a:t>Desenvolver uma estação de contestes competitiva a nível mundial;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dddddd"/>
                </a:solidFill>
                <a:latin typeface="Arial Unicode MS"/>
              </a:rPr>
              <a:t>Estimular a competição em equipes nos mais variados contestes internacionais;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dddddd"/>
                </a:solidFill>
                <a:latin typeface="Arial Unicode MS"/>
              </a:rPr>
              <a:t>Elevar o nível dos operadores tecnicamente com intercâmbio entre os mais experientes e os novatos; 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dddddd"/>
                </a:solidFill>
                <a:latin typeface="Arial Unicode MS"/>
              </a:rPr>
              <a:t>Dar a oportunidade aos radioamadores que desconhecem a radio-competição,  de ver ao vivo uma estação de contestes operando.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ddddd"/>
                </a:solidFill>
                <a:latin typeface="Arial Unicode MS"/>
              </a:rPr>
              <a:t>PR1T TEAM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ddddd"/>
                </a:solidFill>
                <a:latin typeface="Arial Unicode MS"/>
              </a:rPr>
              <a:t>PR1T TEAM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4" name="10%20ABRIL%20035" descr=""/>
          <p:cNvPicPr/>
          <p:nvPr/>
        </p:nvPicPr>
        <p:blipFill>
          <a:blip r:embed="rId2"/>
          <a:stretch/>
        </p:blipFill>
        <p:spPr>
          <a:xfrm>
            <a:off x="1371600" y="175248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ddddd"/>
                </a:solidFill>
                <a:latin typeface="Arial Unicode MS"/>
              </a:rPr>
              <a:t>VHF – DX 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dddddd"/>
              </a:solidFill>
              <a:latin typeface="Arial Unicode MS"/>
            </a:endParaRPr>
          </a:p>
        </p:txBody>
      </p:sp>
      <p:pic>
        <p:nvPicPr>
          <p:cNvPr id="67" name="maio%20020" descr=""/>
          <p:cNvPicPr/>
          <p:nvPr/>
        </p:nvPicPr>
        <p:blipFill>
          <a:blip r:embed="rId2"/>
          <a:stretch/>
        </p:blipFill>
        <p:spPr>
          <a:xfrm>
            <a:off x="76320" y="1752480"/>
            <a:ext cx="5333760" cy="3367080"/>
          </a:xfrm>
          <a:prstGeom prst="rect">
            <a:avLst/>
          </a:prstGeom>
          <a:ln w="0">
            <a:noFill/>
          </a:ln>
        </p:spPr>
      </p:pic>
      <p:pic>
        <p:nvPicPr>
          <p:cNvPr id="68" name="antenas" descr=""/>
          <p:cNvPicPr/>
          <p:nvPr/>
        </p:nvPicPr>
        <p:blipFill>
          <a:blip r:embed="rId3"/>
          <a:stretch/>
        </p:blipFill>
        <p:spPr>
          <a:xfrm>
            <a:off x="4648320" y="348624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dddddd"/>
                </a:solidFill>
                <a:latin typeface="Arial Unicode MS"/>
              </a:rPr>
              <a:t>Contestes ZW1T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Arial Unicode MS"/>
              </a:rPr>
              <a:t>CB144 2005 -2008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dddddd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dddddd"/>
                </a:solidFill>
                <a:latin typeface="Arial Unicode MS"/>
              </a:rPr>
              <a:t>2005 – 3 participantes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dddddd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dddddd"/>
                </a:solidFill>
                <a:latin typeface="Arial Unicode MS"/>
              </a:rPr>
              <a:t>2008 – 49 participant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Arial Unicode MS"/>
              </a:rPr>
              <a:t>AVHF CONTES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dddddd"/>
                </a:solidFill>
                <a:latin typeface="Arial Unicode MS"/>
              </a:rPr>
              <a:t>Expediçõ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dddddd"/>
                </a:solidFill>
                <a:latin typeface="Arial Unicode MS"/>
              </a:rPr>
              <a:t>Contatos DX dos Membro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ddddd"/>
                </a:solidFill>
                <a:latin typeface="Arial Unicode MS"/>
              </a:rPr>
              <a:t>VHF – DX 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0012575" descr=""/>
          <p:cNvPicPr/>
          <p:nvPr/>
        </p:nvPicPr>
        <p:blipFill>
          <a:blip r:embed="rId2"/>
          <a:stretch/>
        </p:blipFill>
        <p:spPr>
          <a:xfrm>
            <a:off x="2514600" y="1066680"/>
            <a:ext cx="6705720" cy="48006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ddddd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3" name="OPERANDO%202" descr=""/>
          <p:cNvPicPr/>
          <p:nvPr/>
        </p:nvPicPr>
        <p:blipFill>
          <a:blip r:embed="rId3"/>
          <a:stretch/>
        </p:blipFill>
        <p:spPr>
          <a:xfrm>
            <a:off x="0" y="4343400"/>
            <a:ext cx="312408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ddddd"/>
                </a:solidFill>
                <a:latin typeface="Arial Unicode MS"/>
              </a:rPr>
              <a:t>Projeto Beacons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ddddd"/>
                </a:solidFill>
                <a:latin typeface="Arial Unicode MS"/>
              </a:rPr>
              <a:t>Do que se trata?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dddddd"/>
                </a:solidFill>
                <a:latin typeface="Arial Unicode MS"/>
              </a:rPr>
              <a:t>O que são os BEACONS?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dddddd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dddddd"/>
                </a:solidFill>
                <a:latin typeface="Arial Unicode MS"/>
              </a:rPr>
              <a:t>também conhecidos como rádio-faróis;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dddddd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dddddd"/>
                </a:solidFill>
                <a:latin typeface="Arial Unicode MS"/>
              </a:rPr>
              <a:t>estações transmissoras, normalmente em CW;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dddddd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dddddd"/>
                </a:solidFill>
                <a:latin typeface="Arial Unicode MS"/>
              </a:rPr>
              <a:t>transmitem seu indicativo e localização ininterruptamente;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dddddd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dddddd"/>
                </a:solidFill>
                <a:latin typeface="Arial Unicode MS"/>
              </a:rPr>
              <a:t>ajudam a determinar se há propagação entre a estação receptora e o beacon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914400" y="5791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486080" y="5719680"/>
            <a:ext cx="66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dddddd"/>
                </a:solidFill>
                <a:latin typeface="Arial Unicode MS"/>
              </a:rPr>
              <a:t>PY1BCN gravado por PP5XX, 144.070MHz em 29/03/2007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"/>
          <p:cNvSpPr/>
          <p:nvPr/>
        </p:nvSpPr>
        <p:spPr>
          <a:xfrm>
            <a:off x="1464840" y="617544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dddddd"/>
                </a:solidFill>
                <a:latin typeface="Arial Unicode MS"/>
              </a:rPr>
              <a:t>PY1BCN GG87KL PY1BCN GG87KL ..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Arial Unicode MS"/>
              </a:rPr>
              <a:t>Objetivo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dddddd"/>
                </a:solidFill>
                <a:latin typeface="Arial Unicode MS"/>
              </a:rPr>
              <a:t>Instalar uma rede de Beacons para mapeamento da propagação em VHF+;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dddddd"/>
                </a:solidFill>
                <a:latin typeface="Arial Unicode MS"/>
              </a:rPr>
              <a:t>Utilizar tecnologia acessível com montagem caseira, reciclando equipamentos antigos de FM tipo FT 227;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dddddd"/>
                </a:solidFill>
                <a:latin typeface="Arial Unicode MS"/>
              </a:rPr>
              <a:t>Formatar a rede de forma que a rede de Beacons tradicionais possa ser compatível com a rede de Beacons Reverso em um futuro próximo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ddddd"/>
                </a:solidFill>
                <a:latin typeface="Arial Unicode MS"/>
              </a:rPr>
              <a:t>Projeto Beacons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75248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Arial Unicode MS"/>
              </a:rPr>
              <a:t>Introdução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Arial Unicode MS"/>
              </a:rPr>
              <a:t>Breve histórico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Arial Unicode MS"/>
              </a:rPr>
              <a:t>Projetos em andamento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dddddd"/>
                </a:solidFill>
                <a:latin typeface="Arial Unicode MS"/>
              </a:rPr>
              <a:t>Ranking RIO DX GROU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dddddd"/>
                </a:solidFill>
                <a:latin typeface="Arial Unicode MS"/>
              </a:rPr>
              <a:t>Brazilian Kids Da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dddddd"/>
                </a:solidFill>
                <a:latin typeface="Arial Unicode MS"/>
              </a:rPr>
              <a:t>PR1T TEAM – Estação de Contest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dddddd"/>
                </a:solidFill>
                <a:latin typeface="Arial Unicode MS"/>
              </a:rPr>
              <a:t>VHF-DX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dddddd"/>
                </a:solidFill>
                <a:latin typeface="Arial Unicode MS"/>
              </a:rPr>
              <a:t>Projeto Beacon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dddddd"/>
                </a:solidFill>
                <a:latin typeface="Arial Unicode MS"/>
              </a:rPr>
              <a:t>Projeto Rede de Beacons Reversos VHF/P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dddddd"/>
                </a:solidFill>
                <a:latin typeface="Arial Unicode MS"/>
              </a:rPr>
              <a:t>Rede de BEACONS reversos</a:t>
            </a:r>
            <a:br>
              <a:rPr sz="4000"/>
            </a:br>
            <a:br>
              <a:rPr sz="1800"/>
            </a:br>
            <a:r>
              <a:rPr b="0" i="1" lang="pt-BR" sz="1800" spc="-1" strike="noStrike">
                <a:solidFill>
                  <a:srgbClr val="dddddd"/>
                </a:solidFill>
                <a:latin typeface="Arial Unicode MS"/>
              </a:rPr>
              <a:t> </a:t>
            </a:r>
            <a:r>
              <a:rPr b="1" lang="pt-BR" sz="3200" spc="-1" strike="noStrike">
                <a:solidFill>
                  <a:srgbClr val="dddddd"/>
                </a:solidFill>
                <a:latin typeface="Arial Unicode MS"/>
              </a:rPr>
              <a:t>http://skimmer.dxwatch.com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dddddd"/>
                </a:solidFill>
                <a:latin typeface="Arial Unicode MS"/>
              </a:rPr>
              <a:t>Felipe Ceglia – PY1NB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 Unicode MS"/>
                <a:hlinkClick r:id="rId2"/>
              </a:rPr>
              <a:t>felipe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 Unicode MS"/>
                <a:hlinkClick r:id="rId3"/>
              </a:rPr>
              <a:t>@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 Unicode MS"/>
                <a:hlinkClick r:id="rId4"/>
              </a:rPr>
              <a:t>dxwatch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 Unicode MS"/>
                <a:hlinkClick r:id="rId5"/>
              </a:rPr>
              <a:t>.com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dddddd"/>
                </a:solidFill>
                <a:latin typeface="Arial Unicode MS"/>
              </a:rPr>
              <a:t>Rio DX Group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2981160" y="5813280"/>
            <a:ext cx="317196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ddddd"/>
                </a:solidFill>
                <a:latin typeface="Arial Unicode MS"/>
              </a:rPr>
              <a:t>O BEACON reverso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48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Arial Unicode MS"/>
              </a:rPr>
              <a:t>não transmite, apenas recebe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749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Arial Unicode MS"/>
              </a:rPr>
              <a:t>monitora trechos com largura de 3kHz a 96kHz (dependendo do receptor)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749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Arial Unicode MS"/>
              </a:rPr>
              <a:t>gera um log da atividade (em CW) captada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749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Arial Unicode MS"/>
              </a:rPr>
              <a:t>envia o log da atividade captada para um site na internet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ddddd"/>
                </a:solidFill>
                <a:latin typeface="Arial Unicode MS"/>
              </a:rPr>
              <a:t>Como funciona?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1749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Arial Unicode MS"/>
              </a:rPr>
              <a:t>o receptor manda o sinal para o PC / CW Skimmer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lnSpc>
                <a:spcPct val="80000"/>
              </a:lnSpc>
              <a:spcBef>
                <a:spcPts val="1749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Arial Unicode MS"/>
              </a:rPr>
              <a:t>o CW Skimmer manda os dados pro “aggregator”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lnSpc>
                <a:spcPct val="80000"/>
              </a:lnSpc>
              <a:spcBef>
                <a:spcPts val="1749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Arial Unicode MS"/>
              </a:rPr>
              <a:t>o “aggregator” manda os dados pro site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lnSpc>
                <a:spcPct val="80000"/>
              </a:lnSpc>
              <a:spcBef>
                <a:spcPts val="1749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Arial Unicode MS"/>
              </a:rPr>
              <a:t>o site torna os dados públicos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ddddd"/>
                </a:solidFill>
                <a:latin typeface="Arial Unicode MS"/>
              </a:rPr>
              <a:t>Como funciona?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04920" y="2700360"/>
            <a:ext cx="1295280" cy="500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0880" y="5219640"/>
            <a:ext cx="1067040" cy="800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 rot="5400000">
            <a:off x="1679040" y="4118040"/>
            <a:ext cx="451080" cy="609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 rot="5400000">
            <a:off x="5870160" y="4041720"/>
            <a:ext cx="450720" cy="609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362320" y="2438280"/>
            <a:ext cx="3355920" cy="4038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553080" y="3100320"/>
            <a:ext cx="2590920" cy="25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ddddd"/>
                </a:solidFill>
                <a:latin typeface="Arial Unicode MS"/>
              </a:rPr>
              <a:t>Receptor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dddddd"/>
                </a:solidFill>
                <a:latin typeface="Arial Unicode MS"/>
              </a:rPr>
              <a:t>receptor comum, com SSB/CW  - largura de recepção de 3kHz;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dddddd"/>
                </a:solidFill>
                <a:latin typeface="Arial Unicode MS"/>
              </a:rPr>
              <a:t>receptor comum, com SDR ligado à FI – largura de recepção de até 96kHz;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dddddd"/>
                </a:solidFill>
                <a:latin typeface="Arial Unicode MS"/>
              </a:rPr>
              <a:t>receptor SDR – largura de recepção de até 96kHz.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ddddd"/>
                </a:solidFill>
                <a:latin typeface="Arial Unicode MS"/>
              </a:rPr>
              <a:t>CW Skimmer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48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dddddd"/>
                </a:solidFill>
                <a:latin typeface="Arial Unicode MS"/>
              </a:rPr>
              <a:t>decodificador de CW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dddddd"/>
                </a:solidFill>
                <a:latin typeface="Arial Unicode MS"/>
              </a:rPr>
              <a:t>VE3NEA (DXAtlas, HAMCap, etc);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dddddd"/>
                </a:solidFill>
                <a:latin typeface="Arial Unicode MS"/>
              </a:rPr>
              <a:t>decodifica mais de 200 sinais de CW simultaneamente (depende da CPU);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dddddd"/>
                </a:solidFill>
                <a:latin typeface="Arial Unicode MS"/>
              </a:rPr>
              <a:t>razoável precisão;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dddddd"/>
                </a:solidFill>
                <a:latin typeface="Arial Unicode MS"/>
              </a:rPr>
              <a:t>envia os dados para o website.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ddddd"/>
                </a:solidFill>
                <a:latin typeface="Arial Unicode MS"/>
              </a:rPr>
              <a:t>Website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dddddd"/>
                </a:solidFill>
                <a:latin typeface="Arial Unicode MS"/>
              </a:rPr>
              <a:t>armazena os dados;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dddddd"/>
                </a:solidFill>
                <a:latin typeface="Arial Unicode MS"/>
              </a:rPr>
              <a:t>permite filtragem dos dados, DXCC, banda, etc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dddddd"/>
                </a:solidFill>
                <a:latin typeface="Arial Unicode MS"/>
              </a:rPr>
              <a:t>70 skimmers já enviaram dados ao site *;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dddddd"/>
                </a:solidFill>
                <a:latin typeface="Arial Unicode MS"/>
              </a:rPr>
              <a:t>20 skimmers estiveram ativos nos últimos 7 dias *;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dddddd"/>
                </a:solidFill>
                <a:latin typeface="Arial Unicode MS"/>
              </a:rPr>
              <a:t>para um intervalo de 7 dias, a rede de skimmers contava com 62mil spots, enquanto a rede de clusters contava com 46mil (cerca de 34% de spots a mais) *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641520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 Unicode MS"/>
              </a:rPr>
              <a:t>* contagem feita em 15/07/2008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ddddd"/>
                </a:solidFill>
                <a:latin typeface="Arial Unicode MS"/>
              </a:rPr>
              <a:t>Pontos positivos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Arial Unicode MS"/>
              </a:rPr>
              <a:t>um “beacon reverso” percebe </a:t>
            </a:r>
            <a:r>
              <a:rPr b="1" lang="pt-BR" sz="2800" spc="-1" strike="noStrike">
                <a:solidFill>
                  <a:srgbClr val="dddddd"/>
                </a:solidFill>
                <a:latin typeface="Arial Unicode MS"/>
              </a:rPr>
              <a:t>qualquer </a:t>
            </a:r>
            <a:r>
              <a:rPr b="0" lang="pt-BR" sz="2800" spc="-1" strike="noStrike">
                <a:solidFill>
                  <a:srgbClr val="dddddd"/>
                </a:solidFill>
                <a:latin typeface="Arial Unicode MS"/>
              </a:rPr>
              <a:t>atividade em CW que o receptor escutar e o software decodificar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Arial Unicode MS"/>
              </a:rPr>
              <a:t>independe da presença do operador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Arial Unicode MS"/>
              </a:rPr>
              <a:t>receptores simples de SDR para HF são baratos e eficientes (softrock, sdrzero)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Arial Unicode MS"/>
              </a:rPr>
              <a:t>pode-se usar um SDR ligado à FI de um rádio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ddddd"/>
                </a:solidFill>
                <a:latin typeface="Arial Unicode MS"/>
              </a:rPr>
              <a:t>Pontos negativos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dddddd"/>
                </a:solidFill>
                <a:latin typeface="Arial Unicode MS"/>
              </a:rPr>
              <a:t>CW Skimmer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Arial Unicode MS"/>
              </a:rPr>
              <a:t>não é freeware (U$70,00)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Arial Unicode MS"/>
              </a:rPr>
              <a:t>ainda não dá indicação da qualidade da recepção, SNR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Arial Unicode MS"/>
              </a:rPr>
              <a:t>obviamente, muito ruído na recepção atrapalha a decodificação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dddddd"/>
                </a:solidFill>
                <a:latin typeface="Arial Unicode MS"/>
              </a:rPr>
              <a:t>ainda não existe solução barata de SDR para VHF+;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dddddd"/>
                </a:solidFill>
                <a:latin typeface="Arial Unicode MS"/>
              </a:rPr>
              <a:t>Aplicações práticas para o Brasil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Arial Unicode MS"/>
              </a:rPr>
              <a:t>beacons e “beacons reversos” monitorando TEPs em VHF+ 24/7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700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Arial Unicode MS"/>
              </a:rPr>
              <a:t>“</a:t>
            </a:r>
            <a:r>
              <a:rPr b="0" lang="pt-BR" sz="2800" spc="-1" strike="noStrike">
                <a:solidFill>
                  <a:srgbClr val="dddddd"/>
                </a:solidFill>
                <a:latin typeface="Arial Unicode MS"/>
              </a:rPr>
              <a:t>beacons reversos” monitorando atividade DX em 144MHz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700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Arial Unicode MS"/>
              </a:rPr>
              <a:t>uso “recreativo” como cluster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700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Arial Unicode MS"/>
              </a:rPr>
              <a:t>quem me escuta?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ddddd"/>
                </a:solidFill>
                <a:latin typeface="Arial Unicode MS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dddddd"/>
                </a:solidFill>
                <a:latin typeface="Arial Unicode MS"/>
              </a:rPr>
              <a:t>PARTICIPE!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408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dddddd"/>
                </a:solidFill>
                <a:latin typeface="Arial Unicode MS"/>
              </a:rPr>
              <a:t>Todos são bem vindos a participar da “rede de beacons reversos”, quanto mais estações, melhor!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009999"/>
                </a:solidFill>
                <a:uFillTx/>
                <a:latin typeface="Arial Unicode MS"/>
                <a:hlinkClick r:id="rId2"/>
              </a:rPr>
              <a:t>http</a:t>
            </a:r>
            <a:r>
              <a:rPr b="0" lang="pt-BR" sz="3600" spc="-1" strike="noStrike" u="sng">
                <a:solidFill>
                  <a:srgbClr val="009999"/>
                </a:solidFill>
                <a:uFillTx/>
                <a:latin typeface="Arial Unicode MS"/>
                <a:hlinkClick r:id="rId3"/>
              </a:rPr>
              <a:t>://</a:t>
            </a:r>
            <a:r>
              <a:rPr b="0" lang="pt-BR" sz="3600" spc="-1" strike="noStrike" u="sng">
                <a:solidFill>
                  <a:srgbClr val="009999"/>
                </a:solidFill>
                <a:uFillTx/>
                <a:latin typeface="Arial Unicode MS"/>
                <a:hlinkClick r:id="rId4"/>
              </a:rPr>
              <a:t>skimmer</a:t>
            </a:r>
            <a:r>
              <a:rPr b="0" lang="pt-BR" sz="3600" spc="-1" strike="noStrike" u="sng">
                <a:solidFill>
                  <a:srgbClr val="009999"/>
                </a:solidFill>
                <a:uFillTx/>
                <a:latin typeface="Arial Unicode MS"/>
                <a:hlinkClick r:id="rId5"/>
              </a:rPr>
              <a:t>.</a:t>
            </a:r>
            <a:r>
              <a:rPr b="0" lang="pt-BR" sz="3600" spc="-1" strike="noStrike" u="sng">
                <a:solidFill>
                  <a:srgbClr val="009999"/>
                </a:solidFill>
                <a:uFillTx/>
                <a:latin typeface="Arial Unicode MS"/>
                <a:hlinkClick r:id="rId6"/>
              </a:rPr>
              <a:t>dxwatch</a:t>
            </a:r>
            <a:r>
              <a:rPr b="0" lang="pt-BR" sz="3600" spc="-1" strike="noStrike" u="sng">
                <a:solidFill>
                  <a:srgbClr val="009999"/>
                </a:solidFill>
                <a:uFillTx/>
                <a:latin typeface="Arial Unicode MS"/>
                <a:hlinkClick r:id="rId7"/>
              </a:rPr>
              <a:t>.com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 u="sng">
                <a:solidFill>
                  <a:srgbClr val="33ccff"/>
                </a:solidFill>
                <a:uFillTx/>
                <a:latin typeface="Arial Unicode MS"/>
              </a:rPr>
              <a:t>http://riodxgroup.dxwatch.com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2057400" y="5715000"/>
            <a:ext cx="510552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ddddd"/>
                </a:solidFill>
                <a:latin typeface="Arial Unicode MS"/>
              </a:rPr>
              <a:t>BREVE HISTÓRICO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dddddd"/>
                </a:solidFill>
                <a:latin typeface="Arial Unicode MS"/>
              </a:rPr>
              <a:t>RIO DX GROUP iniciou suas atividades em Outubro de 2005 com a criação da Lista de discussão do grupo </a:t>
            </a: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 Unicode MS"/>
                <a:hlinkClick r:id="rId2"/>
              </a:rPr>
              <a:t>http</a:t>
            </a: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 Unicode MS"/>
                <a:hlinkClick r:id="rId3"/>
              </a:rPr>
              <a:t>://</a:t>
            </a: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 Unicode MS"/>
                <a:hlinkClick r:id="rId4"/>
              </a:rPr>
              <a:t>br</a:t>
            </a: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 Unicode MS"/>
                <a:hlinkClick r:id="rId5"/>
              </a:rPr>
              <a:t>.</a:t>
            </a: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 Unicode MS"/>
                <a:hlinkClick r:id="rId6"/>
              </a:rPr>
              <a:t>groups</a:t>
            </a: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 Unicode MS"/>
                <a:hlinkClick r:id="rId7"/>
              </a:rPr>
              <a:t>.</a:t>
            </a: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 Unicode MS"/>
                <a:hlinkClick r:id="rId8"/>
              </a:rPr>
              <a:t>yahoo</a:t>
            </a: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 Unicode MS"/>
                <a:hlinkClick r:id="rId9"/>
              </a:rPr>
              <a:t>.com/group/RIO-DX-GROUP/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dddddd"/>
                </a:solidFill>
                <a:latin typeface="Arial Unicode MS"/>
              </a:rPr>
              <a:t>Os objetivo principal é desenvolver o radioamadorismo tecnicamente através do DX e da radio-competição.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ddddd"/>
                </a:solidFill>
                <a:latin typeface="Arial Unicode MS"/>
              </a:rPr>
              <a:t>Projetos em Andamento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ddddd"/>
                </a:solidFill>
                <a:latin typeface="Arial Unicode MS"/>
              </a:rPr>
              <a:t>RANKING RIO DX GROUP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8153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ddddd"/>
                </a:solidFill>
                <a:latin typeface="Arial Unicode MS"/>
              </a:rPr>
              <a:t>Ranking RIO DX GROUP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dddddd"/>
                </a:solidFill>
                <a:latin typeface="Arial Unicode MS"/>
              </a:rPr>
              <a:t>Lançado em 2008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dddddd"/>
                </a:solidFill>
                <a:latin typeface="Arial Unicode MS"/>
              </a:rPr>
              <a:t>Objetivos: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Arial Unicode MS"/>
              </a:rPr>
              <a:t>Estimular a participação em contestes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Arial Unicode MS"/>
              </a:rPr>
              <a:t>Estimular a competição entre os novatos; 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Arial Unicode MS"/>
              </a:rPr>
              <a:t>Desenvolver a participação em modalidades digitais e CW, além de fonia.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ddddd"/>
                </a:solidFill>
                <a:latin typeface="Arial Unicode MS"/>
              </a:rPr>
              <a:t>Brazilian Kids Day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62120" y="1703520"/>
            <a:ext cx="7696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2408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dddddd"/>
                </a:solidFill>
                <a:latin typeface="Arial Unicode MS"/>
              </a:rPr>
              <a:t>Objetivo: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Arial Unicode MS"/>
              </a:rPr>
              <a:t>Apresentar e estimular as crianças e os Jovens à prática do radioamadorismo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Arial Unicode MS"/>
              </a:rPr>
              <a:t>Desenvolver o sentimento saudável da competição entre as crianças e jovens; 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Arial Unicode MS"/>
              </a:rPr>
              <a:t>Promover um dia de operação dividindo nosso hobby com nossos baixinhos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dddddd"/>
                </a:solidFill>
                <a:latin typeface="Arial Unicode MS"/>
              </a:rPr>
              <a:t>Brazilian Kids Day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abio Hoelz</cp:lastModifiedBy>
  <dcterms:modified xsi:type="dcterms:W3CDTF">2008-07-25T02:00:42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