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5C1E-5D75-4F61-A65F-628D29C6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D924-E654-49BD-B0DD-EF5E966E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FE2-D364-48A5-87CB-B5E9B41A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FE32-8EE0-436E-BA75-D9A80668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95F-CE0B-4C93-A269-306ECBEE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57CF-3EB1-4F13-AC90-61D17708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7895-7304-4418-8A6B-3E469945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88A1-6D9F-41BF-8A81-930EAD54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DDC6-20CD-4B72-8BDA-788F639A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FA64-9C70-4668-9362-BB0C6405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BB15-5535-4ED1-B6B2-90C872A6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FE7-2351-469B-98A1-89C3B213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535A-9F38-4A53-9788-F97D7C154B27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felipe@dxwatch.co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4.jpeg"/><Relationship Id="rId4" Type="http://schemas.openxmlformats.org/officeDocument/2006/relationships/slide" Target="slide6.xml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" Target="slide7.xml"/><Relationship Id="rId9" Type="http://schemas.openxmlformats.org/officeDocument/2006/relationships/image" Target="../media/image7.jpeg"/><Relationship Id="rId10" Type="http://schemas.openxmlformats.org/officeDocument/2006/relationships/slide" Target="slide8.xml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808080"/>
                </a:solidFill>
                <a:latin typeface="Arial Unicode MS"/>
              </a:rPr>
              <a:t>Rede de BEACONS reversos</a:t>
            </a:r>
            <a:br>
              <a:rPr sz="4000"/>
            </a:br>
            <a:br>
              <a:rPr sz="1800"/>
            </a:br>
            <a:r>
              <a:rPr b="0" i="1" lang="pt-BR" sz="1800" spc="-1" strike="noStrike">
                <a:solidFill>
                  <a:srgbClr val="808080"/>
                </a:solidFill>
                <a:latin typeface="Arial Unicode MS"/>
              </a:rPr>
              <a:t> </a:t>
            </a:r>
            <a:r>
              <a:rPr b="1" lang="pt-BR" sz="3200" spc="-1" strike="noStrike">
                <a:solidFill>
                  <a:srgbClr val="808080"/>
                </a:solidFill>
                <a:latin typeface="Arial Unicode MS"/>
              </a:rPr>
              <a:t>http://skimmer.dxwatch.com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Unicode MS"/>
              </a:rPr>
              <a:t>Felipe Ceglia – PY1NB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 Unicode MS"/>
                <a:hlinkClick r:id="rId2"/>
              </a:rPr>
              <a:t>felipe@dxwatch.com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Unicode MS"/>
              </a:rPr>
              <a:t>Rio DX Group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81160" y="5813280"/>
            <a:ext cx="317196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808080"/>
                </a:solidFill>
                <a:latin typeface="Arial Unicode MS"/>
              </a:rPr>
              <a:t>Pontos negativos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Arial Unicode MS"/>
              </a:rPr>
              <a:t>CW Skimmer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Arial Unicode MS"/>
              </a:rPr>
              <a:t>não é freeware (U$70,00)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Arial Unicode MS"/>
              </a:rPr>
              <a:t>ainda não dá indicação da qualidade da recepção, SNR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Arial Unicode MS"/>
              </a:rPr>
              <a:t>obviamente, muito ruído na recepção atrapalha a decodificação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Arial Unicode MS"/>
              </a:rPr>
              <a:t>ainda não existe solução barata de SDR para VHF+;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Arial Unicode MS"/>
              </a:rPr>
              <a:t>Aplicações práticas para o Brasil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Arial Unicode MS"/>
              </a:rPr>
              <a:t>beacons e “beacons reversos” monitorando TEPs em VHF+ 24/7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Arial Unicode MS"/>
              </a:rPr>
              <a:t>“</a:t>
            </a:r>
            <a:r>
              <a:rPr b="0" lang="pt-BR" sz="2800" spc="-1" strike="noStrike">
                <a:solidFill>
                  <a:srgbClr val="808080"/>
                </a:solidFill>
                <a:latin typeface="Arial Unicode MS"/>
              </a:rPr>
              <a:t>beacons reversos” monitorando atividade DX em 144MHz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Arial Unicode MS"/>
              </a:rPr>
              <a:t>uso “recreativo” como cluster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Arial Unicode MS"/>
              </a:rPr>
              <a:t>quem me escuta?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808080"/>
                </a:solidFill>
                <a:latin typeface="Arial Unicode MS"/>
              </a:rPr>
              <a:t>PARTICIPE!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08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Arial Unicode MS"/>
              </a:rPr>
              <a:t>Todos são bem vindos a participar da “rede de beacons reversos”, quanto mais estações, melhor!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808080"/>
                </a:solidFill>
                <a:latin typeface="Arial Unicode MS"/>
              </a:rPr>
              <a:t>http://skimmer.dxwatch.com</a:t>
            </a:r>
            <a:endParaRPr b="0" lang="en-US" sz="4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505240" y="5724360"/>
            <a:ext cx="381924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808080"/>
                </a:solidFill>
                <a:latin typeface="Arial Unicode MS"/>
              </a:rPr>
              <a:t>Do que se trata?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Arial Unicode MS"/>
              </a:rPr>
              <a:t>O que são os BEACONS?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8080"/>
                </a:solidFill>
                <a:latin typeface="Arial Unicode MS"/>
              </a:rPr>
              <a:t>também conhecidos como rádio-faróis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8080"/>
                </a:solidFill>
                <a:latin typeface="Arial Unicode MS"/>
              </a:rPr>
              <a:t>estações transmissoras, normalmente em CW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8080"/>
                </a:solidFill>
                <a:latin typeface="Arial Unicode MS"/>
              </a:rPr>
              <a:t>transmitem seu indicativo e localização ininterruptamente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8080"/>
                </a:solidFill>
                <a:latin typeface="Arial Unicode MS"/>
              </a:rPr>
              <a:t>ajudam a determinar se há propagação entre a estação receptora e o beacon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86080" y="5719680"/>
            <a:ext cx="66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808080"/>
                </a:solidFill>
                <a:latin typeface="Arial Unicode MS"/>
              </a:rPr>
              <a:t>PY1BCN gravado por PP5XX, 144.070MHz em 29/03/2007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"/>
          <p:cNvSpPr/>
          <p:nvPr/>
        </p:nvSpPr>
        <p:spPr>
          <a:xfrm>
            <a:off x="1464840" y="617544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 Unicode MS"/>
              </a:rPr>
              <a:t>PY1BCN GG87KL PY1BCN GG87KL ..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808080"/>
                </a:solidFill>
                <a:latin typeface="Arial Unicode MS"/>
              </a:rPr>
              <a:t>O BEACON reverso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8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Arial Unicode MS"/>
              </a:rPr>
              <a:t>não transmite, apenas recebe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74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Arial Unicode MS"/>
              </a:rPr>
              <a:t>monitora trechos com largura de 3kHz a 96kHz (dependendo do receptor)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74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Arial Unicode MS"/>
              </a:rPr>
              <a:t>gera um log da atividade (em CW) captada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74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Arial Unicode MS"/>
              </a:rPr>
              <a:t>envia o log da atividade captada para um site na internet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808080"/>
                </a:solidFill>
                <a:latin typeface="Arial Unicode MS"/>
              </a:rPr>
              <a:t>Como funciona?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174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Arial Unicode MS"/>
              </a:rPr>
              <a:t>o receptor manda o sinal para o PC / CW Skimmer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80000"/>
              </a:lnSpc>
              <a:spcBef>
                <a:spcPts val="174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Arial Unicode MS"/>
              </a:rPr>
              <a:t>o CW Skimmer manda os dados pro “aggregator”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80000"/>
              </a:lnSpc>
              <a:spcBef>
                <a:spcPts val="174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Arial Unicode MS"/>
              </a:rPr>
              <a:t>o “aggregator” manda os dados pro site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80000"/>
              </a:lnSpc>
              <a:spcBef>
                <a:spcPts val="174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Arial Unicode MS"/>
              </a:rPr>
              <a:t>o site torna os dados públicos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808080"/>
                </a:solidFill>
                <a:latin typeface="Arial Unicode MS"/>
              </a:rPr>
              <a:t>Como funciona?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4920" y="2700360"/>
            <a:ext cx="1295280" cy="500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5219640"/>
            <a:ext cx="1067040" cy="800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 rot="5400000">
            <a:off x="1679040" y="4118040"/>
            <a:ext cx="451080" cy="609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 rot="5400000">
            <a:off x="5870160" y="4041720"/>
            <a:ext cx="450720" cy="609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2438280"/>
            <a:ext cx="3355920" cy="4038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553080" y="3100320"/>
            <a:ext cx="259092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808080"/>
                </a:solidFill>
                <a:latin typeface="Arial Unicode MS"/>
              </a:rPr>
              <a:t>Receptor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Arial Unicode MS"/>
              </a:rPr>
              <a:t>receptor comum, com SSB/CW  - largura de recepção de 3kHz;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Arial Unicode MS"/>
              </a:rPr>
              <a:t>receptor comum, com SDR ligado à FI – largura de recepção de até 96kHz;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Arial Unicode MS"/>
              </a:rPr>
              <a:t>receptor SDR – largura de recepção de até 96kHz.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808080"/>
                </a:solidFill>
                <a:latin typeface="Arial Unicode MS"/>
              </a:rPr>
              <a:t>CW Skimmer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8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Arial Unicode MS"/>
              </a:rPr>
              <a:t>decodificador de CW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Arial Unicode MS"/>
              </a:rPr>
              <a:t>VE3NEA (DXAtlas, HAMCap, etc);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Arial Unicode MS"/>
              </a:rPr>
              <a:t>decodifica mais de 200 sinais de CW simultaneamente (depende da CPU);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Arial Unicode MS"/>
              </a:rPr>
              <a:t>razoável precisão;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Arial Unicode MS"/>
              </a:rPr>
              <a:t>envia os dados para o website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808080"/>
                </a:solidFill>
                <a:latin typeface="Arial Unicode MS"/>
              </a:rPr>
              <a:t>Website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8080"/>
                </a:solidFill>
                <a:latin typeface="Arial Unicode MS"/>
              </a:rPr>
              <a:t>armazena os dados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8080"/>
                </a:solidFill>
                <a:latin typeface="Arial Unicode MS"/>
              </a:rPr>
              <a:t>permite filtragem dos dados, DXCC, banda, etc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8080"/>
                </a:solidFill>
                <a:latin typeface="Arial Unicode MS"/>
              </a:rPr>
              <a:t>70 skimmers já enviaram dados ao site *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8080"/>
                </a:solidFill>
                <a:latin typeface="Arial Unicode MS"/>
              </a:rPr>
              <a:t>20 skimmers estiveram ativos nos últimos 7 dias *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8080"/>
                </a:solidFill>
                <a:latin typeface="Arial Unicode MS"/>
              </a:rPr>
              <a:t>para um intervalo de 7 dias, a rede de skimmers contava com 62mil spots, enquanto a rede de clusters contava com 46mil (cerca de 34% de spots a mais) *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641520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 Unicode MS"/>
              </a:rPr>
              <a:t>* contagem feita em 15/07/2008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808080"/>
                </a:solidFill>
                <a:latin typeface="Arial Unicode MS"/>
              </a:rPr>
              <a:t>Pontos positivos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Arial Unicode MS"/>
              </a:rPr>
              <a:t>um “beacon reverso” percebe </a:t>
            </a:r>
            <a:r>
              <a:rPr b="1" lang="pt-BR" sz="2800" spc="-1" strike="noStrike">
                <a:solidFill>
                  <a:srgbClr val="808080"/>
                </a:solidFill>
                <a:latin typeface="Arial Unicode MS"/>
              </a:rPr>
              <a:t>qualquer </a:t>
            </a:r>
            <a:r>
              <a:rPr b="0" lang="pt-BR" sz="2800" spc="-1" strike="noStrike">
                <a:solidFill>
                  <a:srgbClr val="808080"/>
                </a:solidFill>
                <a:latin typeface="Arial Unicode MS"/>
              </a:rPr>
              <a:t>atividade em CW que o receptor escutar e o software decodificar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Arial Unicode MS"/>
              </a:rPr>
              <a:t>independe da presença do operador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Arial Unicode MS"/>
              </a:rPr>
              <a:t>receptores simples de SDR para HF são baratos e eficientes (softrock, sdrzero)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Arial Unicode MS"/>
              </a:rPr>
              <a:t>pode-se usar um SDR ligado à FI de um rádio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dor</cp:lastModifiedBy>
  <dcterms:modified xsi:type="dcterms:W3CDTF">2008-07-22T14:32:0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