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29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9.wmf" ContentType="image/x-wmf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38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304560" y="6477120"/>
            <a:ext cx="845820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09480"/>
            <a:ext cx="0" cy="6019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-357120" y="5693040"/>
            <a:ext cx="14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berto Turco IV3G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560" y="6400800"/>
            <a:ext cx="137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NARCO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09480"/>
            <a:ext cx="76320" cy="5867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400800"/>
            <a:ext cx="8229600" cy="76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raucariadx-Vert" descr=""/>
          <p:cNvPicPr/>
          <p:nvPr/>
        </p:nvPicPr>
        <p:blipFill>
          <a:blip r:embed="rId2"/>
          <a:stretch/>
        </p:blipFill>
        <p:spPr>
          <a:xfrm>
            <a:off x="152280" y="3962520"/>
            <a:ext cx="285840" cy="11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ke-topograf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077320" cy="4394160"/>
          </a:xfrm>
          <a:prstGeom prst="rect">
            <a:avLst/>
          </a:prstGeom>
          <a:ln w="0">
            <a:noFill/>
          </a:ln>
        </p:spPr>
      </p:pic>
      <p:pic>
        <p:nvPicPr>
          <p:cNvPr id="47" name="gke-norte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962520" cy="1163880"/>
          </a:xfrm>
          <a:prstGeom prst="rect">
            <a:avLst/>
          </a:prstGeom>
          <a:ln w="0">
            <a:noFill/>
          </a:ln>
        </p:spPr>
      </p:pic>
      <p:pic>
        <p:nvPicPr>
          <p:cNvPr id="48" name="R_t_gram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24" descr=""/>
          <p:cNvPicPr/>
          <p:nvPr/>
        </p:nvPicPr>
        <p:blipFill>
          <a:blip r:embed="rId4"/>
          <a:stretch/>
        </p:blipFill>
        <p:spPr>
          <a:xfrm>
            <a:off x="4267080" y="4267080"/>
            <a:ext cx="27432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fenarcom%20logo" descr=""/>
          <p:cNvPicPr/>
          <p:nvPr/>
        </p:nvPicPr>
        <p:blipFill>
          <a:blip r:embed="rId5"/>
          <a:stretch/>
        </p:blipFill>
        <p:spPr>
          <a:xfrm>
            <a:off x="1447920" y="304920"/>
            <a:ext cx="300996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640" y="1066680"/>
            <a:ext cx="18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Julho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76520" y="1828800"/>
            <a:ext cx="5943600" cy="101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Efeito do relevo em antenas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Roberto Turco, IV3G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raucariadx" descr=""/>
          <p:cNvPicPr/>
          <p:nvPr/>
        </p:nvPicPr>
        <p:blipFill>
          <a:blip r:embed="rId6"/>
          <a:stretch/>
        </p:blipFill>
        <p:spPr>
          <a:xfrm>
            <a:off x="4800600" y="304920"/>
            <a:ext cx="263844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nglevsskipcolor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4900320"/>
          </a:xfrm>
          <a:prstGeom prst="rect">
            <a:avLst/>
          </a:prstGeom>
          <a:ln w="0">
            <a:noFill/>
          </a:ln>
        </p:spPr>
      </p:pic>
      <p:pic>
        <p:nvPicPr>
          <p:cNvPr id="83" name="20-40-60-flat-plots1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419720" cy="25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6477120" y="3429000"/>
          <a:ext cx="216216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42900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34600" y="5867280"/>
            <a:ext cx="370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ncia alcançada em função do ângulo de radi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5840" y="990720"/>
            <a:ext cx="1676520" cy="2666880"/>
          </a:xfrm>
          <a:prstGeom prst="line">
            <a:avLst/>
          </a:prstGeom>
          <a:ln w="34920">
            <a:solidFill>
              <a:srgbClr val="00cc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514240" y="1066680"/>
            <a:ext cx="4724280" cy="1371600"/>
          </a:xfrm>
          <a:prstGeom prst="line">
            <a:avLst/>
          </a:prstGeom>
          <a:ln w="34920">
            <a:solidFill>
              <a:srgbClr val="00cc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nglevsskipcolor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4900320"/>
          </a:xfrm>
          <a:prstGeom prst="rect">
            <a:avLst/>
          </a:prstGeom>
          <a:ln w="0">
            <a:noFill/>
          </a:ln>
        </p:spPr>
      </p:pic>
      <p:pic>
        <p:nvPicPr>
          <p:cNvPr id="90" name="20-40-60-flat-plots1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419720" cy="25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477120" y="3429000"/>
          <a:ext cx="216216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42900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34600" y="5867280"/>
            <a:ext cx="370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ncia alcançada em função do ângulo de radi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580920" y="990720"/>
            <a:ext cx="1676520" cy="2971800"/>
          </a:xfrm>
          <a:prstGeom prst="line">
            <a:avLst/>
          </a:prstGeom>
          <a:ln cap="rnd" w="349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971800" y="1143000"/>
            <a:ext cx="3200400" cy="1752480"/>
          </a:xfrm>
          <a:prstGeom prst="line">
            <a:avLst/>
          </a:prstGeom>
          <a:ln cap="rnd" w="349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1066680"/>
            <a:ext cx="5105520" cy="1219320"/>
          </a:xfrm>
          <a:prstGeom prst="line">
            <a:avLst/>
          </a:prstGeom>
          <a:ln w="3492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52680" y="838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Y1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y1-eu" descr=""/>
          <p:cNvPicPr/>
          <p:nvPr/>
        </p:nvPicPr>
        <p:blipFill>
          <a:blip r:embed="rId1"/>
          <a:stretch/>
        </p:blipFill>
        <p:spPr>
          <a:xfrm>
            <a:off x="971640" y="1533600"/>
            <a:ext cx="7200720" cy="3790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19320" y="5257800"/>
            <a:ext cx="1609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4,7 % ÂNGULO &lt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,3 % ÂNGULO &lt;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,6 % ÂNGULO &lt;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,7 % ÂNGULO &lt;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,1 % ÂNGULO &lt;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182880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y1-us" descr=""/>
          <p:cNvPicPr/>
          <p:nvPr/>
        </p:nvPicPr>
        <p:blipFill>
          <a:blip r:embed="rId1"/>
          <a:stretch/>
        </p:blipFill>
        <p:spPr>
          <a:xfrm>
            <a:off x="976320" y="1528920"/>
            <a:ext cx="7191360" cy="3800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52680" y="838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Y1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257800"/>
            <a:ext cx="1609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,5 % ÂNGULO &lt;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,7 % ÂNGULO &lt;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,3 % ÂNGULO &lt;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,7 % ÂNGULO &lt;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7,9 % ÂNGULO &lt; 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82880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Y1-SA" descr=""/>
          <p:cNvPicPr/>
          <p:nvPr/>
        </p:nvPicPr>
        <p:blipFill>
          <a:blip r:embed="rId1"/>
          <a:stretch/>
        </p:blipFill>
        <p:spPr>
          <a:xfrm>
            <a:off x="971640" y="1528920"/>
            <a:ext cx="7200720" cy="3800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838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Y1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25780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6 % ÂNGULO &gt; 11°    e   &lt;  28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 % ÂNGULO &gt; 14°    e   &lt; 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 % ÂNGULO &gt; 15°    e   &lt;  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82880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y1-af" descr=""/>
          <p:cNvPicPr/>
          <p:nvPr/>
        </p:nvPicPr>
        <p:blipFill>
          <a:blip r:embed="rId1"/>
          <a:stretch/>
        </p:blipFill>
        <p:spPr>
          <a:xfrm>
            <a:off x="966960" y="1528920"/>
            <a:ext cx="7210080" cy="380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352680" y="838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Y1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182880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Y1-JA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2952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352680" y="83808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Y1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334120"/>
            <a:ext cx="1609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% ÂNGULO = 1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 % ÂNGULO &lt; 3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% ÂNGULO &lt; 4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 % ÂNGULO &lt; 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 % ÂNGULO &lt; 8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44520" y="182880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20+40%20stack-ja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9912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ke-topograf" descr=""/>
          <p:cNvPicPr/>
          <p:nvPr/>
        </p:nvPicPr>
        <p:blipFill>
          <a:blip r:embed="rId1"/>
          <a:stretch/>
        </p:blipFill>
        <p:spPr>
          <a:xfrm>
            <a:off x="1247760" y="905040"/>
            <a:ext cx="6648480" cy="504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90960" y="380880"/>
            <a:ext cx="66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u QTH não e ideal porem a posição no terreno inclinado aju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800240" y="1371600"/>
            <a:ext cx="1066680" cy="3276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67280" y="1447920"/>
            <a:ext cx="1067040" cy="32004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norte2-perfil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8001000" cy="787320"/>
          </a:xfrm>
          <a:prstGeom prst="rect">
            <a:avLst/>
          </a:prstGeom>
          <a:ln w="0">
            <a:noFill/>
          </a:ln>
        </p:spPr>
      </p:pic>
      <p:pic>
        <p:nvPicPr>
          <p:cNvPr id="122" name="vista-p-norte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7924680" cy="2135160"/>
          </a:xfrm>
          <a:prstGeom prst="rect">
            <a:avLst/>
          </a:prstGeom>
          <a:ln w="0">
            <a:noFill/>
          </a:ln>
        </p:spPr>
      </p:pic>
      <p:pic>
        <p:nvPicPr>
          <p:cNvPr id="123" name="real-north" descr=""/>
          <p:cNvPicPr/>
          <p:nvPr/>
        </p:nvPicPr>
        <p:blipFill>
          <a:blip r:embed="rId3"/>
          <a:stretch/>
        </p:blipFill>
        <p:spPr>
          <a:xfrm>
            <a:off x="1905120" y="4572000"/>
            <a:ext cx="5790960" cy="1523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11240" y="91440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 Vertical relev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6480" y="2362320"/>
            <a:ext cx="217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ção 3D vista para o no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9800" y="457200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ta para o no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5105520"/>
            <a:ext cx="609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16600" y="3251160"/>
            <a:ext cx="6094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x-skip" descr=""/>
          <p:cNvPicPr/>
          <p:nvPr/>
        </p:nvPicPr>
        <p:blipFill>
          <a:blip r:embed="rId1"/>
          <a:stretch/>
        </p:blipFill>
        <p:spPr>
          <a:xfrm>
            <a:off x="1724040" y="1162080"/>
            <a:ext cx="5695920" cy="4533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213372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2200" y="2209680"/>
            <a:ext cx="64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ltura k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4960" y="198108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4120" y="1752480"/>
            <a:ext cx="816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angente (0°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276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520"/>
            <a:ext cx="5029200" cy="76212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28954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ância máxima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733920" y="3276720"/>
          <a:ext cx="1888920" cy="2361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3276720"/>
                    <a:ext cx="1888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norte2-perfil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648560" cy="1096920"/>
          </a:xfrm>
          <a:prstGeom prst="rect">
            <a:avLst/>
          </a:prstGeom>
          <a:ln w="0">
            <a:noFill/>
          </a:ln>
        </p:spPr>
      </p:pic>
      <p:pic>
        <p:nvPicPr>
          <p:cNvPr id="130" name="norte.-3el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981920" cy="3771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40040" y="762120"/>
            <a:ext cx="150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e Vertical relev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20937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9520" y="2286000"/>
            <a:ext cx="355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radiação para SteppIR 3el colocada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m do s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514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5146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438280" y="3429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AngleVSskip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724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dsc01238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579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fexion2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943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errainresolution@12m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2667240"/>
          </a:xfrm>
          <a:prstGeom prst="rect">
            <a:avLst/>
          </a:prstGeom>
          <a:ln w="0">
            <a:noFill/>
          </a:ln>
        </p:spPr>
      </p:pic>
      <p:pic>
        <p:nvPicPr>
          <p:cNvPr id="141" name="terrainresolution@18m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7905600" cy="2641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0804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0"/>
            <a:ext cx="62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ções com intervalo do perfil terr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56, 28, 14, 7 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0"/>
            <a:ext cx="62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ções com diferente altura ant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mo azim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var-ialtura%20ant%2015-25-35-45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53320" cy="3848400"/>
          </a:xfrm>
          <a:prstGeom prst="rect">
            <a:avLst/>
          </a:prstGeom>
          <a:ln w="0">
            <a:noFill/>
          </a:ln>
        </p:spPr>
      </p:pic>
      <p:pic>
        <p:nvPicPr>
          <p:cNvPr id="146" name="30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723888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24" descr=""/>
          <p:cNvPicPr/>
          <p:nvPr/>
        </p:nvPicPr>
        <p:blipFill>
          <a:blip r:embed="rId1"/>
          <a:stretch/>
        </p:blipFill>
        <p:spPr>
          <a:xfrm>
            <a:off x="990720" y="853920"/>
            <a:ext cx="7162560" cy="1495440"/>
          </a:xfrm>
          <a:prstGeom prst="rect">
            <a:avLst/>
          </a:prstGeom>
          <a:ln w="0">
            <a:noFill/>
          </a:ln>
        </p:spPr>
      </p:pic>
      <p:pic>
        <p:nvPicPr>
          <p:cNvPr id="148" name="26" descr=""/>
          <p:cNvPicPr/>
          <p:nvPr/>
        </p:nvPicPr>
        <p:blipFill>
          <a:blip r:embed="rId2"/>
          <a:stretch/>
        </p:blipFill>
        <p:spPr>
          <a:xfrm>
            <a:off x="990720" y="2225520"/>
            <a:ext cx="7162560" cy="1506600"/>
          </a:xfrm>
          <a:prstGeom prst="rect">
            <a:avLst/>
          </a:prstGeom>
          <a:ln w="0">
            <a:noFill/>
          </a:ln>
        </p:spPr>
      </p:pic>
      <p:pic>
        <p:nvPicPr>
          <p:cNvPr id="149" name="28" descr=""/>
          <p:cNvPicPr/>
          <p:nvPr/>
        </p:nvPicPr>
        <p:blipFill>
          <a:blip r:embed="rId3"/>
          <a:stretch/>
        </p:blipFill>
        <p:spPr>
          <a:xfrm>
            <a:off x="990720" y="3597120"/>
            <a:ext cx="7162560" cy="1486080"/>
          </a:xfrm>
          <a:prstGeom prst="rect">
            <a:avLst/>
          </a:prstGeom>
          <a:ln w="0">
            <a:noFill/>
          </a:ln>
        </p:spPr>
      </p:pic>
      <p:pic>
        <p:nvPicPr>
          <p:cNvPr id="150" name="30" descr=""/>
          <p:cNvPicPr/>
          <p:nvPr/>
        </p:nvPicPr>
        <p:blipFill>
          <a:blip r:embed="rId4"/>
          <a:stretch/>
        </p:blipFill>
        <p:spPr>
          <a:xfrm>
            <a:off x="990720" y="4876920"/>
            <a:ext cx="7162560" cy="15015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71600" y="228600"/>
            <a:ext cx="62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ções perfil azimute 24°, 26°, 28°, 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0"/>
            <a:ext cx="62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ções com diferente azimute 24°, 26°, 28°, 30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ma a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var-AZIMUT%20ant%2024-26-28-30%20@23m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8105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2590920"/>
            <a:ext cx="62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rop-layers-color" descr=""/>
          <p:cNvPicPr/>
          <p:nvPr/>
        </p:nvPicPr>
        <p:blipFill>
          <a:blip r:embed="rId1"/>
          <a:stretch/>
        </p:blipFill>
        <p:spPr>
          <a:xfrm>
            <a:off x="990720" y="1217520"/>
            <a:ext cx="72388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_t_gram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kip-dist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54380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20-40-60-flat-plots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8040"/>
          </a:xfrm>
          <a:prstGeom prst="rect">
            <a:avLst/>
          </a:prstGeom>
          <a:ln w="0">
            <a:noFill/>
          </a:ln>
        </p:spPr>
      </p:pic>
      <p:pic>
        <p:nvPicPr>
          <p:cNvPr id="70" name="20-40-60-flat-plots-des" descr=""/>
          <p:cNvPicPr/>
          <p:nvPr/>
        </p:nvPicPr>
        <p:blipFill>
          <a:blip r:embed="rId2"/>
          <a:stretch/>
        </p:blipFill>
        <p:spPr>
          <a:xfrm>
            <a:off x="7391520" y="1752480"/>
            <a:ext cx="1030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F-angle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72940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nglevsskipcolor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3906720" cy="490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477120" y="3429000"/>
          <a:ext cx="216216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42900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510560" y="228600"/>
            <a:ext cx="60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ncia alcançada em função do ângulo de radi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nglevsskipcolor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4900320"/>
          </a:xfrm>
          <a:prstGeom prst="rect">
            <a:avLst/>
          </a:prstGeom>
          <a:ln w="0">
            <a:noFill/>
          </a:ln>
        </p:spPr>
      </p:pic>
      <p:pic>
        <p:nvPicPr>
          <p:cNvPr id="77" name="20-40-60-flat-plots1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419720" cy="258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6477120" y="3429000"/>
          <a:ext cx="216216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42900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4600" y="5867280"/>
            <a:ext cx="370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ncia alcançada em função do ângulo de radiaçã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895480" y="1066680"/>
            <a:ext cx="3200400" cy="1752840"/>
          </a:xfrm>
          <a:prstGeom prst="line">
            <a:avLst/>
          </a:prstGeom>
          <a:ln cap="rnd" w="3492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9:10:06Z</dcterms:created>
  <dc:creator>Roberto Turco</dc:creator>
  <dc:description/>
  <dc:language>en-US</dc:language>
  <cp:lastModifiedBy>Roberto Turco</cp:lastModifiedBy>
  <dcterms:modified xsi:type="dcterms:W3CDTF">2007-07-23T13:45:59Z</dcterms:modified>
  <cp:revision>16</cp:revision>
  <dc:subject/>
  <dc:title>Apresentação do PowerPoint</dc:title>
</cp:coreProperties>
</file>